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4B2-B300-4C5D-9EEE-0F865E6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061-A205-492E-A304-0B0CAB5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CBC-3EBB-42AA-9247-281065C4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14E-581C-434E-B8AA-73CCF2F8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6D8-40E9-4F45-9881-2740D80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BD86-8EE3-4C70-8974-51A86CD3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34B8-A0F6-483C-A235-278940A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CB03-CC06-4FAE-990B-9176E1A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8EEC-4D54-4C86-BD9A-6A99964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755-35A2-4595-9404-3838D414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734F-ED81-4D32-A951-D47CC9B4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762-E524-4DD8-8BAE-BAE2286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01D-3050-45FB-B6CA-D3E9EA2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6A9F-5AF1-4A57-8595-10DECE5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6B67-216D-4AC7-9946-9A16C72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BF59-243D-46B9-8CAC-48DFD246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B685-C5F6-4EBC-A13E-A142E1CF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929-01A5-4C2A-A18B-791A587F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C2F-9864-4AAC-9B6E-A4F169DD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606-A8A4-473A-A09D-269B42B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624-C181-4000-BE32-9A0F39E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BC96-C5B4-480B-8994-E5C1D53F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26D-D9ED-4EFD-AD9F-02277D72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C51-42D8-4A9C-860E-8FEB29F6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A96E-DFDC-4EDD-AE4A-AF628EC65C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3812-FAC2-407C-BC2A-CD43B513D24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УПРАВЛЕНИЕ ОБРАЗОВАНИЯ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АДМИНИСТРАЦИИ ТОГУЧИНСКОГО  РАЙОНА</a:t>
            </a:r>
            <a:br>
              <a:rPr sz="1600"/>
            </a:br>
            <a:br>
              <a:rPr sz="1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П Р О Г Р А М М А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реструктуризации сети общеобразовательных учреждений</a:t>
            </a:r>
            <a:br>
              <a:rPr sz="3600"/>
            </a:b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на 2006-2010 годы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г.Тогучин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ДИНАМИКА ЧИСЛЕННОСТИ УЧАЩИХСЯ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051200"/>
            <a:ext cx="32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ДЕМОГРАФИЧЕ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76160" y="1600200"/>
          <a:ext cx="75916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600200"/>
                    <a:ext cx="7591680" cy="45306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Проект реструктуризации сети образовательных учреждений Тогучинского район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371600"/>
          <a:ext cx="8229600" cy="4981680"/>
        </p:xfrm>
        <a:graphic>
          <a:graphicData uri="http://schemas.openxmlformats.org/drawingml/2006/table">
            <a:tbl>
              <a:tblPr/>
              <a:tblGrid>
                <a:gridCol w="1447920"/>
                <a:gridCol w="990720"/>
                <a:gridCol w="1143000"/>
                <a:gridCol w="1120680"/>
                <a:gridCol w="1176480"/>
                <a:gridCol w="1174680"/>
                <a:gridCol w="11761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 наименование образовательного учрежд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ичие начальных классов в других населенных пункта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подвоза из других населенных пункто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 реструктуризаци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олагаемое полное название ОУ на момент завершения проект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олагаемые зат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ч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Тогучинского района Долговская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рх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н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асный выселок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организация 2007г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Тогучинского района Долговск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О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бус, подвоз уч-ся в Сурковскую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Тогучинского района Завьяловская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ломыскино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овкаГоломыскиноДорони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,0 тыс.руб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 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Ново-Абышевская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организация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Ново-Абышевская О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бус, подвоз уч-ся 3-ей ступени в Лебедевскую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Тогучинского района Доронинская О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Завьяловская СОШ, нач.кл.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бус, подвоз учащихся 2-ой ступени в Завьяловскую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ая О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организ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ая начальная школа-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оз учащихся 2-ой ступени в Березиковск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ю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оед. д/сада к школ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990720"/>
          <a:ext cx="8229600" cy="41907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ая О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организ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ая начальная школа-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оз учащихся 2-ой ступени в Березиковск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ю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оед. д/сада к школе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меновская О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Сурковская СОШ, начальные класс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тобус, подвоз учащихся 2-ой ступени в Сурковскую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чаевская Н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организ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Нечаевская начальная школа – детский са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оединение детского сада к школ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8 ви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оз учащихся внутри г.Тогучин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ведена в здание Тогучинской СОШ №2 с сохранением юрид.лиц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Дошкольные образовательные учреждения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1295280"/>
          <a:ext cx="8229600" cy="4321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 наименование дошкольного образовательного учрежде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ль реструктуризаци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олагаемое полное название на момент завершения проек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олагаемые затра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ча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Борцовский детский са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Борцов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 на базе школ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уракски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оуракская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 на базе школ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ий детский с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Курундусская начальная школа –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Лебедевский детский са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Лебедев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Нечаевски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0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Нечаевская начальная школа-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Репьевски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0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Репьевская СОШ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57200" y="1295280"/>
          <a:ext cx="8229600" cy="29718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Степногутовски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Степногутов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Тогучинского района Усть-Каменский детский с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Усть-Камен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образован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Чемско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0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Чем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воспитания на базе школы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ртовский детский сад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квидация 20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У Тогучинского района Юртовская СО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ация программ дошкольного воспит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Прогнозируемые затраты на реструктуризацию сети образовательных учреждений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219320"/>
          <a:ext cx="8229600" cy="4897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ые затра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ая эконо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з учащихся 3-ей ступени из Долгово в Сурковскую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автобуса – 620,0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ГСМ – 41,0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автобуса-13,0 тыс. 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лата водителя -59,1 тыс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з учащихся 2-ой ступени из Доронино в Завьяловскую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автобуса –– 620,0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ГСМ –– 41,0 тыс.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автобуса-13,0 тыс. 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лата водителя -59,1 тыс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з учащихся 3-ей ступени из Ново-Абышево  в Лебедевскую СО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автобуса –620,0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ы на ГСМ –29,9 тыс.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автобуса-13,0 тыс. 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лата водителя -59,1 тыс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а 8 вида переведена в здание Тогучинской СОШ №2 с сохранением юридического л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расходы – 26,6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оединение Курундусского детского сада к шко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расходы-134,5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оединение Коуракского детского сада к шко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расходы-61,0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оединение Чемского детского сада к шко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 расходы-147,4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8,2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9,5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-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5400000">
            <a:off x="-1028880" y="1790640"/>
            <a:ext cx="320040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РАНСПОРТНАЯ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5400000">
            <a:off x="-286200" y="4629240"/>
            <a:ext cx="2629080" cy="228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СТУПНОСТЬ</a:t>
            </a:r>
            <a:endParaRPr b="0" lang="en-US" sz="2800" spc="1" strike="noStrike">
              <a:ln w="9360">
                <a:solidFill>
                  <a:srgbClr val="00008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-8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58960" y="0"/>
          <a:ext cx="6699240" cy="67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0"/>
                    <a:ext cx="669924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938240" y="0"/>
            <a:ext cx="6384960" cy="179280"/>
          </a:xfrm>
          <a:custGeom>
            <a:avLst/>
            <a:gdLst/>
            <a:ahLst/>
            <a:rect l="l" t="t" r="r" b="b"/>
            <a:pathLst>
              <a:path w="17736" h="497">
                <a:moveTo>
                  <a:pt x="9426" y="223"/>
                </a:moveTo>
                <a:lnTo>
                  <a:pt x="9426" y="223"/>
                </a:lnTo>
              </a:path>
              <a:path w="17736" h="497">
                <a:moveTo>
                  <a:pt x="9426" y="223"/>
                </a:moveTo>
                <a:lnTo>
                  <a:pt x="9426" y="223"/>
                </a:lnTo>
              </a:path>
              <a:path w="17736" h="497">
                <a:moveTo>
                  <a:pt x="9227" y="223"/>
                </a:moveTo>
                <a:cubicBezTo>
                  <a:pt x="9136" y="223"/>
                  <a:pt x="9045" y="223"/>
                  <a:pt x="8954" y="223"/>
                </a:cubicBezTo>
              </a:path>
              <a:path w="17736" h="497">
                <a:moveTo>
                  <a:pt x="6772" y="223"/>
                </a:moveTo>
                <a:lnTo>
                  <a:pt x="6772" y="223"/>
                </a:lnTo>
              </a:path>
              <a:path w="17736" h="497">
                <a:moveTo>
                  <a:pt x="6970" y="174"/>
                </a:moveTo>
                <a:cubicBezTo>
                  <a:pt x="7535" y="174"/>
                  <a:pt x="8071" y="120"/>
                  <a:pt x="8632" y="50"/>
                </a:cubicBezTo>
                <a:cubicBezTo>
                  <a:pt x="8937" y="12"/>
                  <a:pt x="9857" y="0"/>
                  <a:pt x="9550" y="0"/>
                </a:cubicBezTo>
                <a:cubicBezTo>
                  <a:pt x="9261" y="0"/>
                  <a:pt x="9120" y="0"/>
                  <a:pt x="8905" y="0"/>
                </a:cubicBezTo>
              </a:path>
              <a:path w="17736" h="497">
                <a:moveTo>
                  <a:pt x="8434" y="0"/>
                </a:moveTo>
                <a:cubicBezTo>
                  <a:pt x="8012" y="0"/>
                  <a:pt x="7591" y="0"/>
                  <a:pt x="7169" y="0"/>
                </a:cubicBezTo>
                <a:cubicBezTo>
                  <a:pt x="6903" y="178"/>
                  <a:pt x="8078" y="50"/>
                  <a:pt x="8111" y="50"/>
                </a:cubicBezTo>
                <a:cubicBezTo>
                  <a:pt x="8582" y="50"/>
                  <a:pt x="8723" y="50"/>
                  <a:pt x="9029" y="50"/>
                </a:cubicBezTo>
                <a:cubicBezTo>
                  <a:pt x="9835" y="50"/>
                  <a:pt x="8589" y="50"/>
                  <a:pt x="8483" y="50"/>
                </a:cubicBezTo>
                <a:cubicBezTo>
                  <a:pt x="7855" y="50"/>
                  <a:pt x="7226" y="50"/>
                  <a:pt x="6598" y="50"/>
                </a:cubicBezTo>
                <a:cubicBezTo>
                  <a:pt x="6838" y="50"/>
                  <a:pt x="6978" y="50"/>
                  <a:pt x="7218" y="50"/>
                </a:cubicBezTo>
                <a:cubicBezTo>
                  <a:pt x="7470" y="50"/>
                  <a:pt x="7688" y="65"/>
                  <a:pt x="7913" y="0"/>
                </a:cubicBezTo>
              </a:path>
              <a:path w="17736" h="497">
                <a:moveTo>
                  <a:pt x="7913" y="0"/>
                </a:moveTo>
                <a:cubicBezTo>
                  <a:pt x="7543" y="41"/>
                  <a:pt x="7193" y="81"/>
                  <a:pt x="6821" y="99"/>
                </a:cubicBezTo>
                <a:cubicBezTo>
                  <a:pt x="6577" y="111"/>
                  <a:pt x="6371" y="104"/>
                  <a:pt x="6152" y="174"/>
                </a:cubicBezTo>
              </a:path>
              <a:path w="17736" h="497">
                <a:moveTo>
                  <a:pt x="6152" y="174"/>
                </a:moveTo>
                <a:cubicBezTo>
                  <a:pt x="6574" y="174"/>
                  <a:pt x="6995" y="174"/>
                  <a:pt x="7417" y="174"/>
                </a:cubicBezTo>
                <a:cubicBezTo>
                  <a:pt x="7775" y="174"/>
                  <a:pt x="7442" y="174"/>
                  <a:pt x="7342" y="174"/>
                </a:cubicBezTo>
                <a:cubicBezTo>
                  <a:pt x="7086" y="174"/>
                  <a:pt x="6829" y="174"/>
                  <a:pt x="6573" y="174"/>
                </a:cubicBezTo>
                <a:cubicBezTo>
                  <a:pt x="6334" y="174"/>
                  <a:pt x="6661" y="174"/>
                  <a:pt x="6697" y="174"/>
                </a:cubicBezTo>
                <a:cubicBezTo>
                  <a:pt x="6838" y="174"/>
                  <a:pt x="6978" y="174"/>
                  <a:pt x="7119" y="174"/>
                </a:cubicBezTo>
              </a:path>
              <a:path w="17736" h="497">
                <a:moveTo>
                  <a:pt x="6871" y="174"/>
                </a:moveTo>
                <a:lnTo>
                  <a:pt x="7069" y="174"/>
                </a:lnTo>
                <a:lnTo>
                  <a:pt x="7119" y="174"/>
                </a:lnTo>
                <a:lnTo>
                  <a:pt x="7119" y="149"/>
                </a:lnTo>
                <a:lnTo>
                  <a:pt x="7069" y="149"/>
                </a:lnTo>
                <a:lnTo>
                  <a:pt x="6995" y="149"/>
                </a:lnTo>
                <a:lnTo>
                  <a:pt x="6945" y="149"/>
                </a:lnTo>
                <a:lnTo>
                  <a:pt x="6871" y="149"/>
                </a:lnTo>
                <a:lnTo>
                  <a:pt x="6796" y="149"/>
                </a:lnTo>
                <a:lnTo>
                  <a:pt x="6722" y="149"/>
                </a:lnTo>
                <a:lnTo>
                  <a:pt x="6623" y="149"/>
                </a:lnTo>
                <a:lnTo>
                  <a:pt x="6548" y="149"/>
                </a:lnTo>
                <a:lnTo>
                  <a:pt x="6474" y="149"/>
                </a:lnTo>
                <a:lnTo>
                  <a:pt x="6424" y="149"/>
                </a:lnTo>
                <a:lnTo>
                  <a:pt x="6449" y="149"/>
                </a:lnTo>
                <a:lnTo>
                  <a:pt x="6524" y="149"/>
                </a:lnTo>
                <a:lnTo>
                  <a:pt x="6573" y="149"/>
                </a:lnTo>
                <a:lnTo>
                  <a:pt x="6573" y="149"/>
                </a:lnTo>
                <a:lnTo>
                  <a:pt x="6424" y="174"/>
                </a:lnTo>
                <a:lnTo>
                  <a:pt x="6201" y="174"/>
                </a:lnTo>
                <a:lnTo>
                  <a:pt x="5928" y="174"/>
                </a:lnTo>
                <a:lnTo>
                  <a:pt x="5779" y="174"/>
                </a:lnTo>
                <a:lnTo>
                  <a:pt x="5705" y="174"/>
                </a:lnTo>
                <a:lnTo>
                  <a:pt x="5804" y="174"/>
                </a:lnTo>
                <a:lnTo>
                  <a:pt x="6077" y="174"/>
                </a:lnTo>
                <a:lnTo>
                  <a:pt x="6598" y="174"/>
                </a:lnTo>
                <a:lnTo>
                  <a:pt x="7069" y="174"/>
                </a:lnTo>
                <a:lnTo>
                  <a:pt x="7441" y="174"/>
                </a:lnTo>
                <a:lnTo>
                  <a:pt x="7590" y="174"/>
                </a:lnTo>
                <a:lnTo>
                  <a:pt x="7565" y="174"/>
                </a:lnTo>
                <a:lnTo>
                  <a:pt x="7293" y="174"/>
                </a:lnTo>
                <a:lnTo>
                  <a:pt x="6921" y="174"/>
                </a:lnTo>
                <a:lnTo>
                  <a:pt x="6524" y="174"/>
                </a:lnTo>
                <a:lnTo>
                  <a:pt x="6127" y="174"/>
                </a:lnTo>
                <a:lnTo>
                  <a:pt x="5804" y="174"/>
                </a:lnTo>
                <a:lnTo>
                  <a:pt x="5705" y="174"/>
                </a:lnTo>
                <a:lnTo>
                  <a:pt x="5705" y="174"/>
                </a:lnTo>
                <a:lnTo>
                  <a:pt x="5904" y="99"/>
                </a:lnTo>
                <a:lnTo>
                  <a:pt x="6375" y="25"/>
                </a:lnTo>
                <a:lnTo>
                  <a:pt x="6846" y="25"/>
                </a:lnTo>
                <a:lnTo>
                  <a:pt x="7169" y="25"/>
                </a:lnTo>
                <a:lnTo>
                  <a:pt x="7268" y="0"/>
                </a:lnTo>
                <a:lnTo>
                  <a:pt x="7218" y="0"/>
                </a:lnTo>
                <a:lnTo>
                  <a:pt x="7069" y="50"/>
                </a:lnTo>
                <a:lnTo>
                  <a:pt x="6722" y="74"/>
                </a:lnTo>
                <a:lnTo>
                  <a:pt x="6325" y="74"/>
                </a:lnTo>
                <a:lnTo>
                  <a:pt x="5928" y="74"/>
                </a:lnTo>
                <a:lnTo>
                  <a:pt x="5655" y="74"/>
                </a:lnTo>
                <a:lnTo>
                  <a:pt x="5507" y="74"/>
                </a:lnTo>
                <a:lnTo>
                  <a:pt x="5581" y="74"/>
                </a:lnTo>
                <a:lnTo>
                  <a:pt x="5779" y="74"/>
                </a:lnTo>
                <a:lnTo>
                  <a:pt x="6300" y="74"/>
                </a:lnTo>
                <a:lnTo>
                  <a:pt x="6945" y="74"/>
                </a:lnTo>
                <a:lnTo>
                  <a:pt x="7392" y="74"/>
                </a:lnTo>
                <a:lnTo>
                  <a:pt x="7714" y="74"/>
                </a:lnTo>
                <a:lnTo>
                  <a:pt x="7764" y="74"/>
                </a:lnTo>
                <a:lnTo>
                  <a:pt x="7764" y="74"/>
                </a:lnTo>
                <a:lnTo>
                  <a:pt x="7714" y="99"/>
                </a:lnTo>
                <a:lnTo>
                  <a:pt x="7441" y="124"/>
                </a:lnTo>
                <a:lnTo>
                  <a:pt x="7069" y="248"/>
                </a:lnTo>
                <a:lnTo>
                  <a:pt x="6697" y="322"/>
                </a:lnTo>
                <a:lnTo>
                  <a:pt x="6350" y="397"/>
                </a:lnTo>
                <a:lnTo>
                  <a:pt x="6226" y="471"/>
                </a:lnTo>
                <a:lnTo>
                  <a:pt x="6226" y="471"/>
                </a:lnTo>
                <a:lnTo>
                  <a:pt x="6276" y="471"/>
                </a:lnTo>
                <a:lnTo>
                  <a:pt x="6449" y="471"/>
                </a:lnTo>
                <a:lnTo>
                  <a:pt x="6747" y="471"/>
                </a:lnTo>
                <a:lnTo>
                  <a:pt x="6921" y="471"/>
                </a:lnTo>
                <a:lnTo>
                  <a:pt x="6945" y="471"/>
                </a:lnTo>
                <a:lnTo>
                  <a:pt x="6945" y="471"/>
                </a:lnTo>
                <a:lnTo>
                  <a:pt x="6846" y="471"/>
                </a:lnTo>
                <a:lnTo>
                  <a:pt x="6648" y="496"/>
                </a:lnTo>
                <a:lnTo>
                  <a:pt x="6474" y="496"/>
                </a:lnTo>
                <a:lnTo>
                  <a:pt x="6325" y="496"/>
                </a:lnTo>
                <a:lnTo>
                  <a:pt x="6276" y="496"/>
                </a:lnTo>
                <a:lnTo>
                  <a:pt x="6300" y="496"/>
                </a:lnTo>
                <a:lnTo>
                  <a:pt x="6524" y="422"/>
                </a:lnTo>
                <a:lnTo>
                  <a:pt x="6821" y="298"/>
                </a:lnTo>
                <a:lnTo>
                  <a:pt x="6970" y="273"/>
                </a:lnTo>
                <a:lnTo>
                  <a:pt x="6995" y="248"/>
                </a:lnTo>
                <a:lnTo>
                  <a:pt x="6945" y="248"/>
                </a:lnTo>
                <a:lnTo>
                  <a:pt x="6697" y="248"/>
                </a:lnTo>
                <a:lnTo>
                  <a:pt x="6350" y="248"/>
                </a:lnTo>
                <a:lnTo>
                  <a:pt x="6028" y="248"/>
                </a:lnTo>
                <a:lnTo>
                  <a:pt x="5879" y="248"/>
                </a:lnTo>
                <a:lnTo>
                  <a:pt x="5829" y="248"/>
                </a:lnTo>
                <a:lnTo>
                  <a:pt x="5829" y="223"/>
                </a:lnTo>
                <a:lnTo>
                  <a:pt x="5829" y="198"/>
                </a:lnTo>
                <a:lnTo>
                  <a:pt x="5879" y="149"/>
                </a:lnTo>
                <a:lnTo>
                  <a:pt x="6077" y="124"/>
                </a:lnTo>
                <a:lnTo>
                  <a:pt x="6226" y="99"/>
                </a:lnTo>
                <a:lnTo>
                  <a:pt x="6300" y="74"/>
                </a:lnTo>
                <a:lnTo>
                  <a:pt x="6251" y="74"/>
                </a:lnTo>
                <a:lnTo>
                  <a:pt x="6201" y="74"/>
                </a:lnTo>
                <a:lnTo>
                  <a:pt x="6152" y="74"/>
                </a:lnTo>
                <a:lnTo>
                  <a:pt x="6176" y="74"/>
                </a:lnTo>
                <a:lnTo>
                  <a:pt x="6449" y="74"/>
                </a:lnTo>
                <a:lnTo>
                  <a:pt x="6896" y="74"/>
                </a:lnTo>
                <a:lnTo>
                  <a:pt x="7268" y="74"/>
                </a:lnTo>
                <a:lnTo>
                  <a:pt x="7466" y="74"/>
                </a:lnTo>
                <a:lnTo>
                  <a:pt x="7491" y="74"/>
                </a:lnTo>
                <a:lnTo>
                  <a:pt x="7491" y="74"/>
                </a:lnTo>
                <a:lnTo>
                  <a:pt x="7293" y="149"/>
                </a:lnTo>
                <a:lnTo>
                  <a:pt x="6945" y="174"/>
                </a:lnTo>
                <a:lnTo>
                  <a:pt x="6573" y="174"/>
                </a:lnTo>
                <a:lnTo>
                  <a:pt x="6201" y="174"/>
                </a:lnTo>
                <a:lnTo>
                  <a:pt x="5978" y="174"/>
                </a:lnTo>
                <a:lnTo>
                  <a:pt x="5953" y="174"/>
                </a:lnTo>
                <a:lnTo>
                  <a:pt x="5978" y="174"/>
                </a:lnTo>
                <a:lnTo>
                  <a:pt x="6052" y="174"/>
                </a:lnTo>
                <a:lnTo>
                  <a:pt x="6276" y="174"/>
                </a:lnTo>
                <a:lnTo>
                  <a:pt x="6499" y="174"/>
                </a:lnTo>
                <a:lnTo>
                  <a:pt x="6573" y="174"/>
                </a:lnTo>
                <a:lnTo>
                  <a:pt x="6598" y="174"/>
                </a:lnTo>
                <a:lnTo>
                  <a:pt x="6598" y="174"/>
                </a:lnTo>
                <a:lnTo>
                  <a:pt x="6548" y="198"/>
                </a:lnTo>
                <a:lnTo>
                  <a:pt x="6474" y="223"/>
                </a:lnTo>
                <a:lnTo>
                  <a:pt x="6424" y="223"/>
                </a:lnTo>
                <a:lnTo>
                  <a:pt x="6400" y="223"/>
                </a:lnTo>
                <a:lnTo>
                  <a:pt x="6424" y="223"/>
                </a:lnTo>
                <a:lnTo>
                  <a:pt x="6573" y="223"/>
                </a:lnTo>
                <a:lnTo>
                  <a:pt x="6796" y="223"/>
                </a:lnTo>
                <a:lnTo>
                  <a:pt x="6995" y="223"/>
                </a:lnTo>
                <a:lnTo>
                  <a:pt x="7020" y="223"/>
                </a:lnTo>
                <a:lnTo>
                  <a:pt x="7020" y="223"/>
                </a:lnTo>
                <a:lnTo>
                  <a:pt x="7020" y="248"/>
                </a:lnTo>
                <a:lnTo>
                  <a:pt x="6945" y="273"/>
                </a:lnTo>
                <a:lnTo>
                  <a:pt x="6747" y="298"/>
                </a:lnTo>
                <a:lnTo>
                  <a:pt x="6548" y="372"/>
                </a:lnTo>
                <a:lnTo>
                  <a:pt x="6449" y="397"/>
                </a:lnTo>
                <a:lnTo>
                  <a:pt x="6400" y="422"/>
                </a:lnTo>
                <a:lnTo>
                  <a:pt x="6375" y="422"/>
                </a:lnTo>
                <a:lnTo>
                  <a:pt x="6350" y="422"/>
                </a:lnTo>
                <a:lnTo>
                  <a:pt x="6325" y="422"/>
                </a:lnTo>
                <a:lnTo>
                  <a:pt x="6276" y="446"/>
                </a:lnTo>
                <a:lnTo>
                  <a:pt x="6276" y="446"/>
                </a:lnTo>
                <a:lnTo>
                  <a:pt x="6350" y="446"/>
                </a:lnTo>
                <a:lnTo>
                  <a:pt x="6375" y="446"/>
                </a:lnTo>
                <a:lnTo>
                  <a:pt x="6400" y="446"/>
                </a:lnTo>
                <a:lnTo>
                  <a:pt x="6400" y="422"/>
                </a:lnTo>
                <a:lnTo>
                  <a:pt x="6350" y="422"/>
                </a:lnTo>
                <a:lnTo>
                  <a:pt x="6276" y="422"/>
                </a:lnTo>
                <a:lnTo>
                  <a:pt x="6201" y="422"/>
                </a:lnTo>
                <a:lnTo>
                  <a:pt x="6176" y="422"/>
                </a:lnTo>
                <a:lnTo>
                  <a:pt x="6176" y="397"/>
                </a:lnTo>
                <a:lnTo>
                  <a:pt x="6176" y="372"/>
                </a:lnTo>
                <a:lnTo>
                  <a:pt x="6226" y="347"/>
                </a:lnTo>
                <a:lnTo>
                  <a:pt x="6424" y="322"/>
                </a:lnTo>
                <a:lnTo>
                  <a:pt x="6648" y="273"/>
                </a:lnTo>
                <a:lnTo>
                  <a:pt x="6772" y="248"/>
                </a:lnTo>
                <a:lnTo>
                  <a:pt x="6821" y="198"/>
                </a:lnTo>
                <a:lnTo>
                  <a:pt x="6772" y="198"/>
                </a:lnTo>
                <a:lnTo>
                  <a:pt x="6598" y="198"/>
                </a:lnTo>
                <a:lnTo>
                  <a:pt x="6251" y="198"/>
                </a:lnTo>
                <a:lnTo>
                  <a:pt x="5978" y="198"/>
                </a:lnTo>
                <a:lnTo>
                  <a:pt x="5730" y="198"/>
                </a:lnTo>
                <a:lnTo>
                  <a:pt x="5730" y="198"/>
                </a:lnTo>
                <a:lnTo>
                  <a:pt x="5730" y="174"/>
                </a:lnTo>
                <a:lnTo>
                  <a:pt x="5730" y="174"/>
                </a:lnTo>
                <a:lnTo>
                  <a:pt x="5854" y="174"/>
                </a:lnTo>
                <a:lnTo>
                  <a:pt x="6152" y="174"/>
                </a:lnTo>
                <a:lnTo>
                  <a:pt x="6424" y="174"/>
                </a:lnTo>
                <a:lnTo>
                  <a:pt x="6672" y="174"/>
                </a:lnTo>
                <a:lnTo>
                  <a:pt x="6747" y="174"/>
                </a:lnTo>
                <a:lnTo>
                  <a:pt x="6747" y="174"/>
                </a:lnTo>
                <a:lnTo>
                  <a:pt x="6722" y="174"/>
                </a:lnTo>
                <a:lnTo>
                  <a:pt x="6672" y="174"/>
                </a:lnTo>
                <a:lnTo>
                  <a:pt x="6648" y="174"/>
                </a:lnTo>
                <a:lnTo>
                  <a:pt x="6623" y="174"/>
                </a:lnTo>
                <a:lnTo>
                  <a:pt x="6672" y="174"/>
                </a:lnTo>
                <a:lnTo>
                  <a:pt x="7020" y="174"/>
                </a:lnTo>
                <a:lnTo>
                  <a:pt x="7565" y="174"/>
                </a:lnTo>
                <a:lnTo>
                  <a:pt x="8260" y="174"/>
                </a:lnTo>
                <a:lnTo>
                  <a:pt x="8632" y="174"/>
                </a:lnTo>
                <a:lnTo>
                  <a:pt x="8657" y="174"/>
                </a:lnTo>
                <a:lnTo>
                  <a:pt x="8657" y="174"/>
                </a:lnTo>
                <a:lnTo>
                  <a:pt x="8533" y="174"/>
                </a:lnTo>
                <a:lnTo>
                  <a:pt x="8062" y="198"/>
                </a:lnTo>
                <a:lnTo>
                  <a:pt x="7417" y="198"/>
                </a:lnTo>
                <a:lnTo>
                  <a:pt x="6747" y="198"/>
                </a:lnTo>
                <a:lnTo>
                  <a:pt x="6077" y="198"/>
                </a:lnTo>
                <a:lnTo>
                  <a:pt x="5606" y="198"/>
                </a:lnTo>
                <a:lnTo>
                  <a:pt x="5507" y="198"/>
                </a:lnTo>
                <a:lnTo>
                  <a:pt x="5482" y="198"/>
                </a:lnTo>
                <a:lnTo>
                  <a:pt x="5457" y="198"/>
                </a:lnTo>
                <a:lnTo>
                  <a:pt x="5407" y="223"/>
                </a:lnTo>
                <a:lnTo>
                  <a:pt x="5383" y="223"/>
                </a:lnTo>
                <a:lnTo>
                  <a:pt x="5383" y="223"/>
                </a:lnTo>
                <a:lnTo>
                  <a:pt x="5432" y="223"/>
                </a:lnTo>
                <a:lnTo>
                  <a:pt x="5730" y="223"/>
                </a:lnTo>
                <a:lnTo>
                  <a:pt x="6201" y="223"/>
                </a:lnTo>
                <a:lnTo>
                  <a:pt x="6772" y="223"/>
                </a:lnTo>
                <a:lnTo>
                  <a:pt x="7218" y="223"/>
                </a:lnTo>
                <a:lnTo>
                  <a:pt x="7417" y="223"/>
                </a:lnTo>
                <a:lnTo>
                  <a:pt x="7441" y="223"/>
                </a:lnTo>
                <a:lnTo>
                  <a:pt x="7441" y="248"/>
                </a:lnTo>
                <a:lnTo>
                  <a:pt x="7243" y="248"/>
                </a:lnTo>
                <a:lnTo>
                  <a:pt x="6970" y="248"/>
                </a:lnTo>
                <a:lnTo>
                  <a:pt x="6648" y="248"/>
                </a:lnTo>
                <a:lnTo>
                  <a:pt x="6350" y="248"/>
                </a:lnTo>
                <a:lnTo>
                  <a:pt x="6127" y="248"/>
                </a:lnTo>
                <a:lnTo>
                  <a:pt x="6052" y="273"/>
                </a:lnTo>
                <a:lnTo>
                  <a:pt x="6003" y="298"/>
                </a:lnTo>
                <a:lnTo>
                  <a:pt x="6003" y="298"/>
                </a:lnTo>
                <a:lnTo>
                  <a:pt x="6028" y="298"/>
                </a:lnTo>
                <a:lnTo>
                  <a:pt x="6127" y="298"/>
                </a:lnTo>
                <a:lnTo>
                  <a:pt x="6424" y="298"/>
                </a:lnTo>
                <a:lnTo>
                  <a:pt x="6921" y="298"/>
                </a:lnTo>
                <a:lnTo>
                  <a:pt x="7491" y="298"/>
                </a:lnTo>
                <a:lnTo>
                  <a:pt x="8062" y="298"/>
                </a:lnTo>
                <a:lnTo>
                  <a:pt x="8458" y="298"/>
                </a:lnTo>
                <a:lnTo>
                  <a:pt x="8558" y="298"/>
                </a:lnTo>
                <a:lnTo>
                  <a:pt x="8533" y="298"/>
                </a:lnTo>
                <a:lnTo>
                  <a:pt x="8359" y="298"/>
                </a:lnTo>
                <a:lnTo>
                  <a:pt x="8136" y="298"/>
                </a:lnTo>
                <a:lnTo>
                  <a:pt x="7863" y="298"/>
                </a:lnTo>
                <a:lnTo>
                  <a:pt x="7615" y="298"/>
                </a:lnTo>
                <a:lnTo>
                  <a:pt x="7590" y="298"/>
                </a:lnTo>
                <a:lnTo>
                  <a:pt x="7590" y="273"/>
                </a:lnTo>
                <a:lnTo>
                  <a:pt x="7615" y="273"/>
                </a:lnTo>
                <a:lnTo>
                  <a:pt x="7913" y="223"/>
                </a:lnTo>
                <a:lnTo>
                  <a:pt x="8285" y="223"/>
                </a:lnTo>
                <a:lnTo>
                  <a:pt x="8806" y="223"/>
                </a:lnTo>
                <a:lnTo>
                  <a:pt x="9227" y="223"/>
                </a:lnTo>
                <a:lnTo>
                  <a:pt x="9401" y="223"/>
                </a:lnTo>
                <a:lnTo>
                  <a:pt x="9426" y="223"/>
                </a:lnTo>
                <a:lnTo>
                  <a:pt x="9327" y="223"/>
                </a:lnTo>
                <a:lnTo>
                  <a:pt x="9103" y="223"/>
                </a:lnTo>
                <a:lnTo>
                  <a:pt x="8682" y="223"/>
                </a:lnTo>
                <a:lnTo>
                  <a:pt x="8111" y="223"/>
                </a:lnTo>
                <a:lnTo>
                  <a:pt x="7541" y="223"/>
                </a:lnTo>
                <a:lnTo>
                  <a:pt x="6970" y="223"/>
                </a:lnTo>
                <a:lnTo>
                  <a:pt x="6672" y="223"/>
                </a:lnTo>
                <a:lnTo>
                  <a:pt x="6598" y="223"/>
                </a:lnTo>
                <a:lnTo>
                  <a:pt x="6623" y="223"/>
                </a:lnTo>
                <a:lnTo>
                  <a:pt x="6846" y="223"/>
                </a:lnTo>
                <a:lnTo>
                  <a:pt x="7367" y="223"/>
                </a:lnTo>
                <a:lnTo>
                  <a:pt x="8136" y="223"/>
                </a:lnTo>
                <a:lnTo>
                  <a:pt x="9277" y="223"/>
                </a:lnTo>
                <a:lnTo>
                  <a:pt x="10418" y="223"/>
                </a:lnTo>
                <a:lnTo>
                  <a:pt x="11286" y="223"/>
                </a:lnTo>
                <a:lnTo>
                  <a:pt x="11807" y="174"/>
                </a:lnTo>
                <a:lnTo>
                  <a:pt x="12154" y="50"/>
                </a:lnTo>
                <a:lnTo>
                  <a:pt x="12154" y="50"/>
                </a:lnTo>
                <a:lnTo>
                  <a:pt x="12154" y="25"/>
                </a:lnTo>
                <a:lnTo>
                  <a:pt x="12055" y="25"/>
                </a:lnTo>
                <a:lnTo>
                  <a:pt x="11757" y="25"/>
                </a:lnTo>
                <a:lnTo>
                  <a:pt x="11336" y="25"/>
                </a:lnTo>
                <a:lnTo>
                  <a:pt x="10914" y="25"/>
                </a:lnTo>
                <a:lnTo>
                  <a:pt x="10740" y="25"/>
                </a:lnTo>
                <a:lnTo>
                  <a:pt x="10716" y="25"/>
                </a:lnTo>
                <a:lnTo>
                  <a:pt x="10740" y="25"/>
                </a:lnTo>
                <a:lnTo>
                  <a:pt x="10815" y="25"/>
                </a:lnTo>
                <a:lnTo>
                  <a:pt x="10988" y="25"/>
                </a:lnTo>
                <a:lnTo>
                  <a:pt x="11187" y="25"/>
                </a:lnTo>
                <a:lnTo>
                  <a:pt x="11261" y="25"/>
                </a:lnTo>
                <a:lnTo>
                  <a:pt x="11212" y="25"/>
                </a:lnTo>
                <a:lnTo>
                  <a:pt x="10864" y="25"/>
                </a:lnTo>
                <a:lnTo>
                  <a:pt x="10418" y="25"/>
                </a:lnTo>
                <a:lnTo>
                  <a:pt x="9699" y="25"/>
                </a:lnTo>
                <a:lnTo>
                  <a:pt x="9029" y="25"/>
                </a:lnTo>
                <a:lnTo>
                  <a:pt x="8558" y="25"/>
                </a:lnTo>
                <a:lnTo>
                  <a:pt x="8458" y="25"/>
                </a:lnTo>
                <a:lnTo>
                  <a:pt x="8458" y="25"/>
                </a:lnTo>
                <a:lnTo>
                  <a:pt x="8657" y="25"/>
                </a:lnTo>
                <a:lnTo>
                  <a:pt x="9153" y="25"/>
                </a:lnTo>
                <a:lnTo>
                  <a:pt x="9872" y="25"/>
                </a:lnTo>
                <a:lnTo>
                  <a:pt x="11013" y="25"/>
                </a:lnTo>
                <a:lnTo>
                  <a:pt x="12353" y="25"/>
                </a:lnTo>
                <a:lnTo>
                  <a:pt x="13320" y="25"/>
                </a:lnTo>
                <a:lnTo>
                  <a:pt x="13816" y="25"/>
                </a:lnTo>
                <a:lnTo>
                  <a:pt x="13891" y="25"/>
                </a:lnTo>
                <a:lnTo>
                  <a:pt x="13915" y="25"/>
                </a:lnTo>
                <a:lnTo>
                  <a:pt x="13841" y="25"/>
                </a:lnTo>
                <a:lnTo>
                  <a:pt x="13667" y="25"/>
                </a:lnTo>
                <a:lnTo>
                  <a:pt x="13320" y="25"/>
                </a:lnTo>
                <a:lnTo>
                  <a:pt x="12824" y="25"/>
                </a:lnTo>
                <a:lnTo>
                  <a:pt x="12179" y="25"/>
                </a:lnTo>
                <a:lnTo>
                  <a:pt x="11683" y="25"/>
                </a:lnTo>
                <a:lnTo>
                  <a:pt x="11261" y="25"/>
                </a:lnTo>
                <a:lnTo>
                  <a:pt x="11063" y="25"/>
                </a:lnTo>
                <a:lnTo>
                  <a:pt x="11038" y="25"/>
                </a:lnTo>
                <a:lnTo>
                  <a:pt x="11038" y="50"/>
                </a:lnTo>
                <a:lnTo>
                  <a:pt x="11088" y="50"/>
                </a:lnTo>
                <a:lnTo>
                  <a:pt x="11261" y="50"/>
                </a:lnTo>
                <a:lnTo>
                  <a:pt x="11410" y="50"/>
                </a:lnTo>
                <a:lnTo>
                  <a:pt x="11460" y="50"/>
                </a:lnTo>
                <a:lnTo>
                  <a:pt x="11460" y="50"/>
                </a:lnTo>
                <a:lnTo>
                  <a:pt x="11435" y="74"/>
                </a:lnTo>
                <a:lnTo>
                  <a:pt x="11162" y="99"/>
                </a:lnTo>
                <a:lnTo>
                  <a:pt x="10716" y="99"/>
                </a:lnTo>
                <a:lnTo>
                  <a:pt x="9996" y="99"/>
                </a:lnTo>
                <a:lnTo>
                  <a:pt x="9525" y="99"/>
                </a:lnTo>
                <a:lnTo>
                  <a:pt x="9302" y="99"/>
                </a:lnTo>
                <a:lnTo>
                  <a:pt x="9277" y="99"/>
                </a:lnTo>
                <a:lnTo>
                  <a:pt x="9327" y="99"/>
                </a:lnTo>
                <a:lnTo>
                  <a:pt x="9550" y="99"/>
                </a:lnTo>
                <a:lnTo>
                  <a:pt x="9971" y="99"/>
                </a:lnTo>
                <a:lnTo>
                  <a:pt x="10542" y="99"/>
                </a:lnTo>
                <a:lnTo>
                  <a:pt x="11311" y="99"/>
                </a:lnTo>
                <a:lnTo>
                  <a:pt x="11881" y="99"/>
                </a:lnTo>
                <a:lnTo>
                  <a:pt x="12154" y="99"/>
                </a:lnTo>
                <a:lnTo>
                  <a:pt x="12204" y="99"/>
                </a:lnTo>
                <a:lnTo>
                  <a:pt x="12204" y="99"/>
                </a:lnTo>
                <a:lnTo>
                  <a:pt x="12154" y="99"/>
                </a:lnTo>
                <a:lnTo>
                  <a:pt x="11906" y="99"/>
                </a:lnTo>
                <a:lnTo>
                  <a:pt x="11435" y="99"/>
                </a:lnTo>
                <a:lnTo>
                  <a:pt x="10864" y="99"/>
                </a:lnTo>
                <a:lnTo>
                  <a:pt x="9996" y="99"/>
                </a:lnTo>
                <a:lnTo>
                  <a:pt x="9054" y="99"/>
                </a:lnTo>
                <a:lnTo>
                  <a:pt x="8186" y="99"/>
                </a:lnTo>
                <a:lnTo>
                  <a:pt x="7665" y="99"/>
                </a:lnTo>
                <a:lnTo>
                  <a:pt x="7392" y="99"/>
                </a:lnTo>
                <a:lnTo>
                  <a:pt x="7417" y="99"/>
                </a:lnTo>
                <a:lnTo>
                  <a:pt x="7714" y="99"/>
                </a:lnTo>
                <a:lnTo>
                  <a:pt x="8285" y="99"/>
                </a:lnTo>
                <a:lnTo>
                  <a:pt x="8954" y="99"/>
                </a:lnTo>
                <a:lnTo>
                  <a:pt x="9823" y="99"/>
                </a:lnTo>
                <a:lnTo>
                  <a:pt x="10393" y="99"/>
                </a:lnTo>
                <a:lnTo>
                  <a:pt x="10740" y="99"/>
                </a:lnTo>
                <a:lnTo>
                  <a:pt x="10815" y="99"/>
                </a:lnTo>
                <a:lnTo>
                  <a:pt x="10765" y="99"/>
                </a:lnTo>
                <a:lnTo>
                  <a:pt x="10616" y="99"/>
                </a:lnTo>
                <a:lnTo>
                  <a:pt x="10368" y="99"/>
                </a:lnTo>
                <a:lnTo>
                  <a:pt x="9922" y="99"/>
                </a:lnTo>
                <a:lnTo>
                  <a:pt x="9451" y="99"/>
                </a:lnTo>
                <a:lnTo>
                  <a:pt x="8979" y="99"/>
                </a:lnTo>
                <a:lnTo>
                  <a:pt x="8657" y="99"/>
                </a:lnTo>
                <a:lnTo>
                  <a:pt x="8607" y="99"/>
                </a:lnTo>
                <a:lnTo>
                  <a:pt x="8607" y="99"/>
                </a:lnTo>
                <a:lnTo>
                  <a:pt x="8880" y="99"/>
                </a:lnTo>
                <a:lnTo>
                  <a:pt x="9327" y="99"/>
                </a:lnTo>
                <a:lnTo>
                  <a:pt x="9971" y="99"/>
                </a:lnTo>
                <a:lnTo>
                  <a:pt x="10492" y="99"/>
                </a:lnTo>
                <a:lnTo>
                  <a:pt x="10815" y="99"/>
                </a:lnTo>
                <a:lnTo>
                  <a:pt x="10864" y="99"/>
                </a:lnTo>
                <a:lnTo>
                  <a:pt x="10864" y="99"/>
                </a:lnTo>
                <a:lnTo>
                  <a:pt x="10666" y="124"/>
                </a:lnTo>
                <a:lnTo>
                  <a:pt x="10244" y="174"/>
                </a:lnTo>
                <a:lnTo>
                  <a:pt x="9674" y="174"/>
                </a:lnTo>
                <a:lnTo>
                  <a:pt x="8806" y="174"/>
                </a:lnTo>
                <a:lnTo>
                  <a:pt x="7938" y="174"/>
                </a:lnTo>
                <a:lnTo>
                  <a:pt x="7441" y="174"/>
                </a:lnTo>
                <a:lnTo>
                  <a:pt x="7293" y="174"/>
                </a:lnTo>
                <a:lnTo>
                  <a:pt x="7367" y="174"/>
                </a:lnTo>
                <a:lnTo>
                  <a:pt x="7789" y="174"/>
                </a:lnTo>
                <a:lnTo>
                  <a:pt x="8657" y="174"/>
                </a:lnTo>
                <a:lnTo>
                  <a:pt x="9699" y="174"/>
                </a:lnTo>
                <a:lnTo>
                  <a:pt x="10964" y="223"/>
                </a:lnTo>
                <a:lnTo>
                  <a:pt x="11658" y="273"/>
                </a:lnTo>
                <a:lnTo>
                  <a:pt x="11981" y="273"/>
                </a:lnTo>
                <a:lnTo>
                  <a:pt x="12005" y="273"/>
                </a:lnTo>
                <a:lnTo>
                  <a:pt x="12005" y="298"/>
                </a:lnTo>
                <a:lnTo>
                  <a:pt x="11857" y="347"/>
                </a:lnTo>
                <a:lnTo>
                  <a:pt x="11534" y="347"/>
                </a:lnTo>
                <a:lnTo>
                  <a:pt x="11162" y="347"/>
                </a:lnTo>
                <a:lnTo>
                  <a:pt x="10641" y="347"/>
                </a:lnTo>
                <a:lnTo>
                  <a:pt x="10096" y="347"/>
                </a:lnTo>
                <a:lnTo>
                  <a:pt x="9575" y="347"/>
                </a:lnTo>
                <a:lnTo>
                  <a:pt x="9203" y="347"/>
                </a:lnTo>
                <a:lnTo>
                  <a:pt x="8930" y="347"/>
                </a:lnTo>
                <a:lnTo>
                  <a:pt x="8855" y="347"/>
                </a:lnTo>
                <a:lnTo>
                  <a:pt x="8880" y="347"/>
                </a:lnTo>
                <a:lnTo>
                  <a:pt x="9054" y="347"/>
                </a:lnTo>
                <a:lnTo>
                  <a:pt x="9302" y="347"/>
                </a:lnTo>
                <a:lnTo>
                  <a:pt x="9550" y="347"/>
                </a:lnTo>
                <a:lnTo>
                  <a:pt x="9674" y="347"/>
                </a:lnTo>
                <a:lnTo>
                  <a:pt x="9699" y="347"/>
                </a:lnTo>
                <a:lnTo>
                  <a:pt x="9699" y="347"/>
                </a:lnTo>
                <a:lnTo>
                  <a:pt x="9699" y="372"/>
                </a:lnTo>
                <a:lnTo>
                  <a:pt x="9525" y="372"/>
                </a:lnTo>
                <a:lnTo>
                  <a:pt x="9252" y="372"/>
                </a:lnTo>
                <a:lnTo>
                  <a:pt x="8880" y="372"/>
                </a:lnTo>
                <a:lnTo>
                  <a:pt x="8558" y="372"/>
                </a:lnTo>
                <a:lnTo>
                  <a:pt x="8359" y="372"/>
                </a:lnTo>
                <a:lnTo>
                  <a:pt x="8334" y="372"/>
                </a:lnTo>
                <a:lnTo>
                  <a:pt x="8359" y="372"/>
                </a:lnTo>
                <a:lnTo>
                  <a:pt x="8533" y="372"/>
                </a:lnTo>
                <a:lnTo>
                  <a:pt x="8905" y="372"/>
                </a:lnTo>
                <a:lnTo>
                  <a:pt x="9475" y="372"/>
                </a:lnTo>
                <a:lnTo>
                  <a:pt x="10344" y="372"/>
                </a:lnTo>
                <a:lnTo>
                  <a:pt x="11112" y="372"/>
                </a:lnTo>
                <a:lnTo>
                  <a:pt x="11485" y="372"/>
                </a:lnTo>
                <a:lnTo>
                  <a:pt x="11559" y="372"/>
                </a:lnTo>
                <a:lnTo>
                  <a:pt x="11460" y="372"/>
                </a:lnTo>
                <a:lnTo>
                  <a:pt x="11212" y="372"/>
                </a:lnTo>
                <a:lnTo>
                  <a:pt x="10716" y="372"/>
                </a:lnTo>
                <a:lnTo>
                  <a:pt x="10195" y="372"/>
                </a:lnTo>
                <a:lnTo>
                  <a:pt x="9773" y="372"/>
                </a:lnTo>
                <a:lnTo>
                  <a:pt x="9599" y="372"/>
                </a:lnTo>
                <a:lnTo>
                  <a:pt x="9674" y="372"/>
                </a:lnTo>
                <a:lnTo>
                  <a:pt x="9922" y="372"/>
                </a:lnTo>
                <a:lnTo>
                  <a:pt x="10368" y="372"/>
                </a:lnTo>
                <a:lnTo>
                  <a:pt x="10939" y="372"/>
                </a:lnTo>
                <a:lnTo>
                  <a:pt x="11286" y="372"/>
                </a:lnTo>
                <a:lnTo>
                  <a:pt x="11385" y="372"/>
                </a:lnTo>
                <a:lnTo>
                  <a:pt x="11261" y="372"/>
                </a:lnTo>
                <a:lnTo>
                  <a:pt x="10939" y="372"/>
                </a:lnTo>
                <a:lnTo>
                  <a:pt x="10418" y="372"/>
                </a:lnTo>
                <a:lnTo>
                  <a:pt x="9971" y="372"/>
                </a:lnTo>
                <a:lnTo>
                  <a:pt x="9599" y="372"/>
                </a:lnTo>
                <a:lnTo>
                  <a:pt x="9401" y="372"/>
                </a:lnTo>
                <a:lnTo>
                  <a:pt x="9426" y="372"/>
                </a:lnTo>
                <a:lnTo>
                  <a:pt x="9500" y="372"/>
                </a:lnTo>
                <a:lnTo>
                  <a:pt x="9624" y="298"/>
                </a:lnTo>
                <a:lnTo>
                  <a:pt x="9649" y="298"/>
                </a:lnTo>
                <a:lnTo>
                  <a:pt x="9550" y="298"/>
                </a:lnTo>
                <a:lnTo>
                  <a:pt x="9252" y="298"/>
                </a:lnTo>
                <a:lnTo>
                  <a:pt x="8781" y="298"/>
                </a:lnTo>
                <a:lnTo>
                  <a:pt x="8458" y="298"/>
                </a:lnTo>
                <a:lnTo>
                  <a:pt x="8384" y="298"/>
                </a:lnTo>
                <a:lnTo>
                  <a:pt x="8409" y="298"/>
                </a:lnTo>
                <a:lnTo>
                  <a:pt x="8706" y="298"/>
                </a:lnTo>
                <a:lnTo>
                  <a:pt x="9128" y="298"/>
                </a:lnTo>
                <a:lnTo>
                  <a:pt x="9649" y="298"/>
                </a:lnTo>
                <a:lnTo>
                  <a:pt x="10096" y="298"/>
                </a:lnTo>
                <a:lnTo>
                  <a:pt x="10393" y="298"/>
                </a:lnTo>
                <a:lnTo>
                  <a:pt x="10492" y="298"/>
                </a:lnTo>
                <a:lnTo>
                  <a:pt x="10468" y="298"/>
                </a:lnTo>
                <a:lnTo>
                  <a:pt x="10368" y="298"/>
                </a:lnTo>
                <a:lnTo>
                  <a:pt x="10220" y="298"/>
                </a:lnTo>
                <a:lnTo>
                  <a:pt x="10046" y="298"/>
                </a:lnTo>
                <a:lnTo>
                  <a:pt x="9748" y="298"/>
                </a:lnTo>
                <a:lnTo>
                  <a:pt x="9525" y="298"/>
                </a:lnTo>
                <a:lnTo>
                  <a:pt x="9327" y="298"/>
                </a:lnTo>
                <a:lnTo>
                  <a:pt x="9252" y="298"/>
                </a:lnTo>
                <a:lnTo>
                  <a:pt x="9277" y="298"/>
                </a:lnTo>
                <a:lnTo>
                  <a:pt x="9699" y="298"/>
                </a:lnTo>
                <a:lnTo>
                  <a:pt x="10269" y="298"/>
                </a:lnTo>
                <a:lnTo>
                  <a:pt x="11112" y="298"/>
                </a:lnTo>
                <a:lnTo>
                  <a:pt x="12080" y="298"/>
                </a:lnTo>
                <a:lnTo>
                  <a:pt x="12650" y="298"/>
                </a:lnTo>
                <a:lnTo>
                  <a:pt x="12898" y="298"/>
                </a:lnTo>
                <a:lnTo>
                  <a:pt x="12923" y="298"/>
                </a:lnTo>
                <a:lnTo>
                  <a:pt x="12874" y="298"/>
                </a:lnTo>
                <a:lnTo>
                  <a:pt x="12626" y="298"/>
                </a:lnTo>
                <a:lnTo>
                  <a:pt x="12204" y="298"/>
                </a:lnTo>
                <a:lnTo>
                  <a:pt x="11733" y="298"/>
                </a:lnTo>
                <a:lnTo>
                  <a:pt x="11162" y="298"/>
                </a:lnTo>
                <a:lnTo>
                  <a:pt x="10790" y="298"/>
                </a:lnTo>
                <a:lnTo>
                  <a:pt x="10716" y="298"/>
                </a:lnTo>
                <a:lnTo>
                  <a:pt x="10716" y="273"/>
                </a:lnTo>
                <a:lnTo>
                  <a:pt x="10740" y="273"/>
                </a:lnTo>
                <a:lnTo>
                  <a:pt x="10964" y="273"/>
                </a:lnTo>
                <a:lnTo>
                  <a:pt x="11336" y="273"/>
                </a:lnTo>
                <a:lnTo>
                  <a:pt x="11857" y="273"/>
                </a:lnTo>
                <a:lnTo>
                  <a:pt x="12502" y="223"/>
                </a:lnTo>
                <a:lnTo>
                  <a:pt x="12973" y="174"/>
                </a:lnTo>
                <a:lnTo>
                  <a:pt x="13246" y="174"/>
                </a:lnTo>
                <a:lnTo>
                  <a:pt x="13320" y="174"/>
                </a:lnTo>
                <a:lnTo>
                  <a:pt x="13295" y="174"/>
                </a:lnTo>
                <a:lnTo>
                  <a:pt x="13221" y="174"/>
                </a:lnTo>
                <a:lnTo>
                  <a:pt x="13122" y="174"/>
                </a:lnTo>
                <a:lnTo>
                  <a:pt x="12898" y="174"/>
                </a:lnTo>
                <a:lnTo>
                  <a:pt x="12700" y="174"/>
                </a:lnTo>
                <a:lnTo>
                  <a:pt x="12700" y="174"/>
                </a:lnTo>
                <a:lnTo>
                  <a:pt x="12700" y="149"/>
                </a:lnTo>
                <a:lnTo>
                  <a:pt x="12700" y="124"/>
                </a:lnTo>
                <a:lnTo>
                  <a:pt x="12774" y="74"/>
                </a:lnTo>
                <a:lnTo>
                  <a:pt x="12998" y="0"/>
                </a:lnTo>
                <a:lnTo>
                  <a:pt x="13122" y="0"/>
                </a:lnTo>
                <a:lnTo>
                  <a:pt x="12874" y="0"/>
                </a:lnTo>
                <a:lnTo>
                  <a:pt x="12427" y="0"/>
                </a:lnTo>
                <a:lnTo>
                  <a:pt x="11857" y="0"/>
                </a:lnTo>
                <a:lnTo>
                  <a:pt x="11162" y="0"/>
                </a:lnTo>
                <a:lnTo>
                  <a:pt x="10716" y="0"/>
                </a:lnTo>
                <a:lnTo>
                  <a:pt x="10567" y="0"/>
                </a:lnTo>
                <a:lnTo>
                  <a:pt x="10542" y="0"/>
                </a:lnTo>
                <a:lnTo>
                  <a:pt x="10641" y="0"/>
                </a:lnTo>
                <a:lnTo>
                  <a:pt x="10939" y="0"/>
                </a:lnTo>
                <a:lnTo>
                  <a:pt x="11361" y="0"/>
                </a:lnTo>
                <a:lnTo>
                  <a:pt x="12129" y="0"/>
                </a:lnTo>
                <a:lnTo>
                  <a:pt x="13171" y="0"/>
                </a:lnTo>
                <a:lnTo>
                  <a:pt x="14238" y="0"/>
                </a:lnTo>
                <a:lnTo>
                  <a:pt x="14808" y="0"/>
                </a:lnTo>
                <a:lnTo>
                  <a:pt x="15056" y="0"/>
                </a:lnTo>
                <a:lnTo>
                  <a:pt x="15081" y="0"/>
                </a:lnTo>
                <a:lnTo>
                  <a:pt x="14982" y="0"/>
                </a:lnTo>
                <a:lnTo>
                  <a:pt x="14684" y="0"/>
                </a:lnTo>
                <a:lnTo>
                  <a:pt x="14263" y="0"/>
                </a:lnTo>
                <a:lnTo>
                  <a:pt x="13692" y="0"/>
                </a:lnTo>
                <a:lnTo>
                  <a:pt x="12824" y="0"/>
                </a:lnTo>
                <a:lnTo>
                  <a:pt x="11881" y="0"/>
                </a:lnTo>
                <a:lnTo>
                  <a:pt x="11112" y="0"/>
                </a:lnTo>
                <a:lnTo>
                  <a:pt x="10517" y="0"/>
                </a:lnTo>
                <a:lnTo>
                  <a:pt x="10294" y="0"/>
                </a:lnTo>
                <a:lnTo>
                  <a:pt x="10344" y="0"/>
                </a:lnTo>
                <a:lnTo>
                  <a:pt x="10641" y="0"/>
                </a:lnTo>
                <a:lnTo>
                  <a:pt x="11063" y="0"/>
                </a:lnTo>
                <a:lnTo>
                  <a:pt x="11832" y="0"/>
                </a:lnTo>
                <a:lnTo>
                  <a:pt x="12799" y="0"/>
                </a:lnTo>
                <a:lnTo>
                  <a:pt x="13568" y="0"/>
                </a:lnTo>
                <a:lnTo>
                  <a:pt x="13940" y="0"/>
                </a:lnTo>
                <a:lnTo>
                  <a:pt x="14039" y="0"/>
                </a:lnTo>
                <a:lnTo>
                  <a:pt x="14064" y="0"/>
                </a:lnTo>
                <a:lnTo>
                  <a:pt x="14015" y="0"/>
                </a:lnTo>
                <a:lnTo>
                  <a:pt x="13791" y="0"/>
                </a:lnTo>
                <a:lnTo>
                  <a:pt x="13370" y="0"/>
                </a:lnTo>
                <a:lnTo>
                  <a:pt x="12799" y="0"/>
                </a:lnTo>
                <a:lnTo>
                  <a:pt x="12129" y="0"/>
                </a:lnTo>
                <a:lnTo>
                  <a:pt x="11559" y="0"/>
                </a:lnTo>
                <a:lnTo>
                  <a:pt x="11261" y="0"/>
                </a:lnTo>
                <a:lnTo>
                  <a:pt x="11187" y="0"/>
                </a:lnTo>
                <a:lnTo>
                  <a:pt x="11212" y="0"/>
                </a:lnTo>
                <a:lnTo>
                  <a:pt x="12973" y="0"/>
                </a:lnTo>
                <a:lnTo>
                  <a:pt x="13891" y="0"/>
                </a:lnTo>
                <a:lnTo>
                  <a:pt x="13866" y="0"/>
                </a:lnTo>
                <a:lnTo>
                  <a:pt x="13841" y="0"/>
                </a:lnTo>
                <a:lnTo>
                  <a:pt x="13816" y="0"/>
                </a:lnTo>
                <a:lnTo>
                  <a:pt x="13767" y="0"/>
                </a:lnTo>
                <a:lnTo>
                  <a:pt x="13692" y="25"/>
                </a:lnTo>
                <a:lnTo>
                  <a:pt x="13618" y="50"/>
                </a:lnTo>
                <a:lnTo>
                  <a:pt x="13568" y="99"/>
                </a:lnTo>
                <a:lnTo>
                  <a:pt x="13543" y="124"/>
                </a:lnTo>
                <a:lnTo>
                  <a:pt x="13543" y="149"/>
                </a:lnTo>
                <a:lnTo>
                  <a:pt x="13519" y="198"/>
                </a:lnTo>
                <a:lnTo>
                  <a:pt x="13494" y="223"/>
                </a:lnTo>
                <a:lnTo>
                  <a:pt x="13469" y="248"/>
                </a:lnTo>
                <a:lnTo>
                  <a:pt x="13419" y="273"/>
                </a:lnTo>
                <a:lnTo>
                  <a:pt x="13395" y="298"/>
                </a:lnTo>
                <a:lnTo>
                  <a:pt x="13370" y="298"/>
                </a:lnTo>
                <a:lnTo>
                  <a:pt x="13345" y="298"/>
                </a:lnTo>
                <a:lnTo>
                  <a:pt x="13320" y="298"/>
                </a:lnTo>
                <a:lnTo>
                  <a:pt x="13295" y="298"/>
                </a:lnTo>
                <a:lnTo>
                  <a:pt x="13271" y="298"/>
                </a:lnTo>
                <a:lnTo>
                  <a:pt x="13221" y="298"/>
                </a:lnTo>
                <a:lnTo>
                  <a:pt x="13146" y="298"/>
                </a:lnTo>
                <a:lnTo>
                  <a:pt x="13022" y="298"/>
                </a:lnTo>
                <a:lnTo>
                  <a:pt x="12824" y="298"/>
                </a:lnTo>
                <a:lnTo>
                  <a:pt x="12601" y="298"/>
                </a:lnTo>
                <a:lnTo>
                  <a:pt x="12303" y="298"/>
                </a:lnTo>
                <a:lnTo>
                  <a:pt x="12030" y="298"/>
                </a:lnTo>
                <a:lnTo>
                  <a:pt x="11782" y="298"/>
                </a:lnTo>
                <a:lnTo>
                  <a:pt x="11683" y="298"/>
                </a:lnTo>
                <a:lnTo>
                  <a:pt x="11807" y="298"/>
                </a:lnTo>
                <a:lnTo>
                  <a:pt x="12229" y="298"/>
                </a:lnTo>
                <a:lnTo>
                  <a:pt x="12799" y="298"/>
                </a:lnTo>
                <a:lnTo>
                  <a:pt x="13370" y="298"/>
                </a:lnTo>
                <a:lnTo>
                  <a:pt x="13791" y="298"/>
                </a:lnTo>
                <a:lnTo>
                  <a:pt x="13940" y="298"/>
                </a:lnTo>
                <a:lnTo>
                  <a:pt x="13940" y="298"/>
                </a:lnTo>
                <a:lnTo>
                  <a:pt x="13692" y="322"/>
                </a:lnTo>
                <a:lnTo>
                  <a:pt x="13246" y="322"/>
                </a:lnTo>
                <a:lnTo>
                  <a:pt x="12675" y="322"/>
                </a:lnTo>
                <a:lnTo>
                  <a:pt x="12080" y="322"/>
                </a:lnTo>
                <a:lnTo>
                  <a:pt x="11584" y="322"/>
                </a:lnTo>
                <a:lnTo>
                  <a:pt x="11385" y="322"/>
                </a:lnTo>
                <a:lnTo>
                  <a:pt x="11336" y="322"/>
                </a:lnTo>
                <a:lnTo>
                  <a:pt x="11336" y="322"/>
                </a:lnTo>
                <a:lnTo>
                  <a:pt x="11509" y="322"/>
                </a:lnTo>
                <a:lnTo>
                  <a:pt x="11782" y="248"/>
                </a:lnTo>
                <a:lnTo>
                  <a:pt x="12030" y="124"/>
                </a:lnTo>
                <a:lnTo>
                  <a:pt x="12129" y="99"/>
                </a:lnTo>
                <a:lnTo>
                  <a:pt x="12129" y="74"/>
                </a:lnTo>
                <a:lnTo>
                  <a:pt x="12030" y="74"/>
                </a:lnTo>
                <a:lnTo>
                  <a:pt x="11658" y="74"/>
                </a:lnTo>
                <a:lnTo>
                  <a:pt x="11013" y="74"/>
                </a:lnTo>
                <a:lnTo>
                  <a:pt x="10244" y="74"/>
                </a:lnTo>
                <a:lnTo>
                  <a:pt x="9748" y="74"/>
                </a:lnTo>
                <a:lnTo>
                  <a:pt x="9624" y="74"/>
                </a:lnTo>
                <a:lnTo>
                  <a:pt x="9649" y="74"/>
                </a:lnTo>
                <a:lnTo>
                  <a:pt x="9947" y="74"/>
                </a:lnTo>
                <a:lnTo>
                  <a:pt x="10319" y="74"/>
                </a:lnTo>
                <a:lnTo>
                  <a:pt x="10790" y="74"/>
                </a:lnTo>
                <a:lnTo>
                  <a:pt x="11261" y="74"/>
                </a:lnTo>
                <a:lnTo>
                  <a:pt x="11708" y="74"/>
                </a:lnTo>
                <a:lnTo>
                  <a:pt x="12080" y="74"/>
                </a:lnTo>
                <a:lnTo>
                  <a:pt x="12278" y="74"/>
                </a:lnTo>
                <a:lnTo>
                  <a:pt x="12353" y="74"/>
                </a:lnTo>
                <a:lnTo>
                  <a:pt x="12303" y="74"/>
                </a:lnTo>
                <a:lnTo>
                  <a:pt x="12129" y="74"/>
                </a:lnTo>
                <a:lnTo>
                  <a:pt x="11708" y="74"/>
                </a:lnTo>
                <a:lnTo>
                  <a:pt x="11137" y="74"/>
                </a:lnTo>
                <a:lnTo>
                  <a:pt x="10468" y="74"/>
                </a:lnTo>
                <a:lnTo>
                  <a:pt x="9773" y="74"/>
                </a:lnTo>
                <a:lnTo>
                  <a:pt x="9351" y="74"/>
                </a:lnTo>
                <a:lnTo>
                  <a:pt x="9227" y="74"/>
                </a:lnTo>
                <a:lnTo>
                  <a:pt x="9252" y="74"/>
                </a:lnTo>
                <a:lnTo>
                  <a:pt x="9525" y="74"/>
                </a:lnTo>
                <a:lnTo>
                  <a:pt x="9922" y="74"/>
                </a:lnTo>
                <a:lnTo>
                  <a:pt x="10393" y="74"/>
                </a:lnTo>
                <a:lnTo>
                  <a:pt x="10815" y="74"/>
                </a:lnTo>
                <a:lnTo>
                  <a:pt x="11013" y="74"/>
                </a:lnTo>
                <a:lnTo>
                  <a:pt x="11013" y="74"/>
                </a:lnTo>
                <a:lnTo>
                  <a:pt x="10914" y="99"/>
                </a:lnTo>
                <a:lnTo>
                  <a:pt x="10716" y="149"/>
                </a:lnTo>
                <a:lnTo>
                  <a:pt x="10344" y="174"/>
                </a:lnTo>
                <a:lnTo>
                  <a:pt x="9947" y="174"/>
                </a:lnTo>
                <a:lnTo>
                  <a:pt x="9674" y="174"/>
                </a:lnTo>
                <a:lnTo>
                  <a:pt x="9525" y="174"/>
                </a:lnTo>
                <a:lnTo>
                  <a:pt x="9525" y="174"/>
                </a:lnTo>
                <a:lnTo>
                  <a:pt x="9550" y="174"/>
                </a:lnTo>
                <a:lnTo>
                  <a:pt x="9575" y="174"/>
                </a:lnTo>
                <a:lnTo>
                  <a:pt x="9649" y="174"/>
                </a:lnTo>
                <a:lnTo>
                  <a:pt x="9847" y="174"/>
                </a:lnTo>
                <a:lnTo>
                  <a:pt x="10096" y="174"/>
                </a:lnTo>
                <a:lnTo>
                  <a:pt x="10418" y="198"/>
                </a:lnTo>
                <a:lnTo>
                  <a:pt x="10765" y="223"/>
                </a:lnTo>
                <a:lnTo>
                  <a:pt x="10988" y="223"/>
                </a:lnTo>
                <a:lnTo>
                  <a:pt x="11088" y="223"/>
                </a:lnTo>
                <a:lnTo>
                  <a:pt x="11088" y="223"/>
                </a:lnTo>
                <a:lnTo>
                  <a:pt x="10988" y="248"/>
                </a:lnTo>
                <a:lnTo>
                  <a:pt x="10691" y="248"/>
                </a:lnTo>
                <a:lnTo>
                  <a:pt x="10319" y="248"/>
                </a:lnTo>
                <a:lnTo>
                  <a:pt x="10046" y="248"/>
                </a:lnTo>
                <a:lnTo>
                  <a:pt x="9897" y="248"/>
                </a:lnTo>
                <a:lnTo>
                  <a:pt x="9847" y="248"/>
                </a:lnTo>
                <a:lnTo>
                  <a:pt x="9847" y="248"/>
                </a:lnTo>
                <a:lnTo>
                  <a:pt x="10120" y="248"/>
                </a:lnTo>
                <a:lnTo>
                  <a:pt x="10666" y="248"/>
                </a:lnTo>
                <a:lnTo>
                  <a:pt x="11633" y="248"/>
                </a:lnTo>
                <a:lnTo>
                  <a:pt x="12427" y="273"/>
                </a:lnTo>
                <a:lnTo>
                  <a:pt x="12849" y="273"/>
                </a:lnTo>
                <a:lnTo>
                  <a:pt x="13047" y="273"/>
                </a:lnTo>
                <a:lnTo>
                  <a:pt x="12923" y="273"/>
                </a:lnTo>
                <a:lnTo>
                  <a:pt x="12601" y="273"/>
                </a:lnTo>
                <a:lnTo>
                  <a:pt x="12030" y="273"/>
                </a:lnTo>
                <a:lnTo>
                  <a:pt x="11261" y="273"/>
                </a:lnTo>
                <a:lnTo>
                  <a:pt x="10765" y="273"/>
                </a:lnTo>
                <a:lnTo>
                  <a:pt x="10418" y="273"/>
                </a:lnTo>
                <a:lnTo>
                  <a:pt x="10393" y="273"/>
                </a:lnTo>
                <a:lnTo>
                  <a:pt x="10418" y="273"/>
                </a:lnTo>
                <a:lnTo>
                  <a:pt x="10616" y="223"/>
                </a:lnTo>
                <a:lnTo>
                  <a:pt x="10889" y="223"/>
                </a:lnTo>
                <a:lnTo>
                  <a:pt x="11311" y="223"/>
                </a:lnTo>
                <a:lnTo>
                  <a:pt x="11584" y="223"/>
                </a:lnTo>
                <a:lnTo>
                  <a:pt x="11658" y="223"/>
                </a:lnTo>
                <a:lnTo>
                  <a:pt x="11683" y="223"/>
                </a:lnTo>
                <a:lnTo>
                  <a:pt x="11633" y="223"/>
                </a:lnTo>
                <a:lnTo>
                  <a:pt x="11485" y="223"/>
                </a:lnTo>
                <a:lnTo>
                  <a:pt x="11336" y="223"/>
                </a:lnTo>
                <a:lnTo>
                  <a:pt x="11286" y="223"/>
                </a:lnTo>
                <a:lnTo>
                  <a:pt x="11286" y="223"/>
                </a:lnTo>
                <a:lnTo>
                  <a:pt x="11286" y="198"/>
                </a:lnTo>
                <a:lnTo>
                  <a:pt x="11286" y="174"/>
                </a:lnTo>
                <a:lnTo>
                  <a:pt x="11410" y="124"/>
                </a:lnTo>
                <a:lnTo>
                  <a:pt x="11509" y="99"/>
                </a:lnTo>
                <a:lnTo>
                  <a:pt x="11584" y="74"/>
                </a:lnTo>
                <a:lnTo>
                  <a:pt x="11609" y="50"/>
                </a:lnTo>
                <a:lnTo>
                  <a:pt x="11559" y="50"/>
                </a:lnTo>
                <a:lnTo>
                  <a:pt x="11385" y="50"/>
                </a:lnTo>
                <a:lnTo>
                  <a:pt x="11088" y="50"/>
                </a:lnTo>
                <a:lnTo>
                  <a:pt x="10815" y="50"/>
                </a:lnTo>
                <a:lnTo>
                  <a:pt x="10616" y="50"/>
                </a:lnTo>
                <a:lnTo>
                  <a:pt x="10592" y="50"/>
                </a:lnTo>
                <a:lnTo>
                  <a:pt x="10616" y="50"/>
                </a:lnTo>
                <a:lnTo>
                  <a:pt x="10790" y="50"/>
                </a:lnTo>
                <a:lnTo>
                  <a:pt x="10988" y="50"/>
                </a:lnTo>
                <a:lnTo>
                  <a:pt x="11063" y="50"/>
                </a:lnTo>
                <a:lnTo>
                  <a:pt x="10964" y="74"/>
                </a:lnTo>
                <a:lnTo>
                  <a:pt x="10864" y="99"/>
                </a:lnTo>
                <a:lnTo>
                  <a:pt x="10740" y="149"/>
                </a:lnTo>
                <a:lnTo>
                  <a:pt x="10740" y="149"/>
                </a:lnTo>
                <a:lnTo>
                  <a:pt x="10815" y="149"/>
                </a:lnTo>
                <a:lnTo>
                  <a:pt x="10988" y="149"/>
                </a:lnTo>
                <a:lnTo>
                  <a:pt x="11187" y="149"/>
                </a:lnTo>
                <a:lnTo>
                  <a:pt x="11261" y="149"/>
                </a:lnTo>
                <a:lnTo>
                  <a:pt x="11237" y="149"/>
                </a:lnTo>
                <a:lnTo>
                  <a:pt x="11212" y="149"/>
                </a:lnTo>
                <a:lnTo>
                  <a:pt x="11212" y="124"/>
                </a:lnTo>
                <a:lnTo>
                  <a:pt x="11212" y="124"/>
                </a:lnTo>
                <a:lnTo>
                  <a:pt x="11261" y="99"/>
                </a:lnTo>
                <a:lnTo>
                  <a:pt x="11286" y="99"/>
                </a:lnTo>
                <a:lnTo>
                  <a:pt x="11336" y="99"/>
                </a:lnTo>
                <a:lnTo>
                  <a:pt x="11435" y="99"/>
                </a:lnTo>
                <a:lnTo>
                  <a:pt x="11658" y="99"/>
                </a:lnTo>
                <a:lnTo>
                  <a:pt x="12055" y="99"/>
                </a:lnTo>
                <a:lnTo>
                  <a:pt x="12700" y="99"/>
                </a:lnTo>
                <a:lnTo>
                  <a:pt x="13221" y="99"/>
                </a:lnTo>
                <a:lnTo>
                  <a:pt x="13643" y="99"/>
                </a:lnTo>
                <a:lnTo>
                  <a:pt x="13816" y="99"/>
                </a:lnTo>
                <a:lnTo>
                  <a:pt x="13816" y="99"/>
                </a:lnTo>
                <a:lnTo>
                  <a:pt x="13816" y="124"/>
                </a:lnTo>
                <a:lnTo>
                  <a:pt x="13717" y="149"/>
                </a:lnTo>
                <a:lnTo>
                  <a:pt x="13519" y="149"/>
                </a:lnTo>
                <a:lnTo>
                  <a:pt x="13320" y="149"/>
                </a:lnTo>
                <a:lnTo>
                  <a:pt x="13171" y="174"/>
                </a:lnTo>
                <a:lnTo>
                  <a:pt x="13022" y="174"/>
                </a:lnTo>
                <a:lnTo>
                  <a:pt x="12874" y="174"/>
                </a:lnTo>
                <a:lnTo>
                  <a:pt x="12874" y="174"/>
                </a:lnTo>
                <a:lnTo>
                  <a:pt x="12849" y="174"/>
                </a:lnTo>
                <a:lnTo>
                  <a:pt x="12824" y="174"/>
                </a:lnTo>
                <a:lnTo>
                  <a:pt x="12675" y="198"/>
                </a:lnTo>
                <a:lnTo>
                  <a:pt x="12427" y="198"/>
                </a:lnTo>
                <a:lnTo>
                  <a:pt x="12154" y="198"/>
                </a:lnTo>
                <a:lnTo>
                  <a:pt x="12005" y="198"/>
                </a:lnTo>
                <a:lnTo>
                  <a:pt x="11906" y="198"/>
                </a:lnTo>
                <a:lnTo>
                  <a:pt x="11881" y="198"/>
                </a:lnTo>
                <a:lnTo>
                  <a:pt x="11832" y="198"/>
                </a:lnTo>
                <a:lnTo>
                  <a:pt x="11906" y="198"/>
                </a:lnTo>
                <a:lnTo>
                  <a:pt x="12154" y="198"/>
                </a:lnTo>
                <a:lnTo>
                  <a:pt x="12601" y="198"/>
                </a:lnTo>
                <a:lnTo>
                  <a:pt x="13171" y="198"/>
                </a:lnTo>
                <a:lnTo>
                  <a:pt x="13692" y="223"/>
                </a:lnTo>
                <a:lnTo>
                  <a:pt x="13965" y="223"/>
                </a:lnTo>
                <a:lnTo>
                  <a:pt x="14089" y="223"/>
                </a:lnTo>
                <a:lnTo>
                  <a:pt x="14089" y="223"/>
                </a:lnTo>
                <a:lnTo>
                  <a:pt x="14064" y="223"/>
                </a:lnTo>
                <a:lnTo>
                  <a:pt x="13791" y="223"/>
                </a:lnTo>
                <a:lnTo>
                  <a:pt x="13295" y="223"/>
                </a:lnTo>
                <a:lnTo>
                  <a:pt x="12774" y="223"/>
                </a:lnTo>
                <a:lnTo>
                  <a:pt x="12452" y="223"/>
                </a:lnTo>
                <a:lnTo>
                  <a:pt x="12353" y="223"/>
                </a:lnTo>
                <a:lnTo>
                  <a:pt x="12328" y="223"/>
                </a:lnTo>
                <a:lnTo>
                  <a:pt x="12353" y="223"/>
                </a:lnTo>
                <a:lnTo>
                  <a:pt x="12601" y="223"/>
                </a:lnTo>
                <a:lnTo>
                  <a:pt x="13122" y="223"/>
                </a:lnTo>
                <a:lnTo>
                  <a:pt x="13841" y="248"/>
                </a:lnTo>
                <a:lnTo>
                  <a:pt x="14560" y="347"/>
                </a:lnTo>
                <a:lnTo>
                  <a:pt x="15032" y="397"/>
                </a:lnTo>
                <a:lnTo>
                  <a:pt x="15329" y="471"/>
                </a:lnTo>
                <a:lnTo>
                  <a:pt x="15354" y="471"/>
                </a:lnTo>
                <a:lnTo>
                  <a:pt x="15354" y="471"/>
                </a:lnTo>
                <a:lnTo>
                  <a:pt x="15280" y="471"/>
                </a:lnTo>
                <a:lnTo>
                  <a:pt x="15056" y="471"/>
                </a:lnTo>
                <a:lnTo>
                  <a:pt x="14734" y="471"/>
                </a:lnTo>
                <a:lnTo>
                  <a:pt x="14362" y="471"/>
                </a:lnTo>
                <a:lnTo>
                  <a:pt x="13841" y="471"/>
                </a:lnTo>
                <a:lnTo>
                  <a:pt x="13469" y="471"/>
                </a:lnTo>
                <a:lnTo>
                  <a:pt x="13246" y="471"/>
                </a:lnTo>
                <a:lnTo>
                  <a:pt x="13196" y="471"/>
                </a:lnTo>
                <a:lnTo>
                  <a:pt x="13196" y="471"/>
                </a:lnTo>
                <a:lnTo>
                  <a:pt x="13370" y="471"/>
                </a:lnTo>
                <a:lnTo>
                  <a:pt x="13692" y="471"/>
                </a:lnTo>
                <a:lnTo>
                  <a:pt x="14163" y="471"/>
                </a:lnTo>
                <a:lnTo>
                  <a:pt x="14709" y="471"/>
                </a:lnTo>
                <a:lnTo>
                  <a:pt x="15131" y="471"/>
                </a:lnTo>
                <a:lnTo>
                  <a:pt x="15429" y="471"/>
                </a:lnTo>
                <a:lnTo>
                  <a:pt x="15429" y="471"/>
                </a:lnTo>
                <a:lnTo>
                  <a:pt x="15379" y="471"/>
                </a:lnTo>
                <a:lnTo>
                  <a:pt x="15304" y="471"/>
                </a:lnTo>
                <a:lnTo>
                  <a:pt x="15156" y="471"/>
                </a:lnTo>
                <a:lnTo>
                  <a:pt x="14932" y="471"/>
                </a:lnTo>
                <a:lnTo>
                  <a:pt x="14684" y="471"/>
                </a:lnTo>
                <a:lnTo>
                  <a:pt x="14461" y="471"/>
                </a:lnTo>
                <a:lnTo>
                  <a:pt x="14387" y="471"/>
                </a:lnTo>
                <a:lnTo>
                  <a:pt x="14412" y="471"/>
                </a:lnTo>
                <a:lnTo>
                  <a:pt x="14635" y="471"/>
                </a:lnTo>
                <a:lnTo>
                  <a:pt x="15007" y="471"/>
                </a:lnTo>
                <a:lnTo>
                  <a:pt x="15379" y="471"/>
                </a:lnTo>
                <a:lnTo>
                  <a:pt x="15850" y="471"/>
                </a:lnTo>
                <a:lnTo>
                  <a:pt x="16222" y="471"/>
                </a:lnTo>
                <a:lnTo>
                  <a:pt x="16321" y="471"/>
                </a:lnTo>
                <a:lnTo>
                  <a:pt x="16346" y="471"/>
                </a:lnTo>
                <a:lnTo>
                  <a:pt x="16346" y="471"/>
                </a:lnTo>
                <a:lnTo>
                  <a:pt x="16346" y="496"/>
                </a:lnTo>
                <a:lnTo>
                  <a:pt x="16148" y="496"/>
                </a:lnTo>
                <a:lnTo>
                  <a:pt x="15776" y="496"/>
                </a:lnTo>
                <a:lnTo>
                  <a:pt x="15255" y="496"/>
                </a:lnTo>
                <a:lnTo>
                  <a:pt x="14635" y="496"/>
                </a:lnTo>
                <a:lnTo>
                  <a:pt x="13940" y="496"/>
                </a:lnTo>
                <a:lnTo>
                  <a:pt x="13444" y="496"/>
                </a:lnTo>
                <a:lnTo>
                  <a:pt x="13146" y="496"/>
                </a:lnTo>
                <a:lnTo>
                  <a:pt x="13146" y="496"/>
                </a:lnTo>
                <a:lnTo>
                  <a:pt x="13196" y="496"/>
                </a:lnTo>
                <a:lnTo>
                  <a:pt x="13345" y="496"/>
                </a:lnTo>
                <a:lnTo>
                  <a:pt x="13618" y="496"/>
                </a:lnTo>
                <a:lnTo>
                  <a:pt x="13990" y="496"/>
                </a:lnTo>
                <a:lnTo>
                  <a:pt x="14560" y="496"/>
                </a:lnTo>
                <a:lnTo>
                  <a:pt x="15081" y="496"/>
                </a:lnTo>
                <a:lnTo>
                  <a:pt x="15453" y="496"/>
                </a:lnTo>
                <a:lnTo>
                  <a:pt x="15602" y="496"/>
                </a:lnTo>
                <a:lnTo>
                  <a:pt x="15602" y="496"/>
                </a:lnTo>
                <a:lnTo>
                  <a:pt x="15553" y="496"/>
                </a:lnTo>
                <a:lnTo>
                  <a:pt x="15379" y="496"/>
                </a:lnTo>
                <a:lnTo>
                  <a:pt x="15081" y="496"/>
                </a:lnTo>
                <a:lnTo>
                  <a:pt x="14759" y="496"/>
                </a:lnTo>
                <a:lnTo>
                  <a:pt x="14560" y="496"/>
                </a:lnTo>
                <a:lnTo>
                  <a:pt x="14560" y="496"/>
                </a:lnTo>
                <a:lnTo>
                  <a:pt x="14635" y="496"/>
                </a:lnTo>
                <a:lnTo>
                  <a:pt x="14833" y="422"/>
                </a:lnTo>
                <a:lnTo>
                  <a:pt x="15032" y="347"/>
                </a:lnTo>
                <a:lnTo>
                  <a:pt x="15280" y="322"/>
                </a:lnTo>
                <a:lnTo>
                  <a:pt x="15429" y="248"/>
                </a:lnTo>
                <a:lnTo>
                  <a:pt x="15453" y="248"/>
                </a:lnTo>
                <a:lnTo>
                  <a:pt x="15453" y="223"/>
                </a:lnTo>
                <a:lnTo>
                  <a:pt x="15404" y="223"/>
                </a:lnTo>
                <a:lnTo>
                  <a:pt x="15230" y="223"/>
                </a:lnTo>
                <a:lnTo>
                  <a:pt x="14858" y="223"/>
                </a:lnTo>
                <a:lnTo>
                  <a:pt x="14387" y="223"/>
                </a:lnTo>
                <a:lnTo>
                  <a:pt x="13816" y="223"/>
                </a:lnTo>
                <a:lnTo>
                  <a:pt x="13345" y="223"/>
                </a:lnTo>
                <a:lnTo>
                  <a:pt x="13171" y="223"/>
                </a:lnTo>
                <a:lnTo>
                  <a:pt x="13171" y="223"/>
                </a:lnTo>
                <a:lnTo>
                  <a:pt x="13345" y="223"/>
                </a:lnTo>
                <a:lnTo>
                  <a:pt x="13667" y="223"/>
                </a:lnTo>
                <a:lnTo>
                  <a:pt x="14139" y="223"/>
                </a:lnTo>
                <a:lnTo>
                  <a:pt x="14635" y="223"/>
                </a:lnTo>
                <a:lnTo>
                  <a:pt x="15106" y="223"/>
                </a:lnTo>
                <a:lnTo>
                  <a:pt x="15379" y="223"/>
                </a:lnTo>
                <a:lnTo>
                  <a:pt x="15478" y="223"/>
                </a:lnTo>
                <a:lnTo>
                  <a:pt x="15354" y="223"/>
                </a:lnTo>
                <a:lnTo>
                  <a:pt x="15180" y="223"/>
                </a:lnTo>
                <a:lnTo>
                  <a:pt x="14858" y="223"/>
                </a:lnTo>
                <a:lnTo>
                  <a:pt x="14486" y="223"/>
                </a:lnTo>
                <a:lnTo>
                  <a:pt x="14064" y="223"/>
                </a:lnTo>
                <a:lnTo>
                  <a:pt x="13742" y="223"/>
                </a:lnTo>
                <a:lnTo>
                  <a:pt x="13618" y="223"/>
                </a:lnTo>
                <a:lnTo>
                  <a:pt x="13618" y="198"/>
                </a:lnTo>
                <a:lnTo>
                  <a:pt x="13618" y="174"/>
                </a:lnTo>
                <a:lnTo>
                  <a:pt x="13618" y="174"/>
                </a:lnTo>
                <a:lnTo>
                  <a:pt x="13791" y="124"/>
                </a:lnTo>
                <a:lnTo>
                  <a:pt x="14015" y="124"/>
                </a:lnTo>
                <a:lnTo>
                  <a:pt x="14436" y="124"/>
                </a:lnTo>
                <a:lnTo>
                  <a:pt x="14709" y="124"/>
                </a:lnTo>
                <a:lnTo>
                  <a:pt x="14833" y="124"/>
                </a:lnTo>
                <a:lnTo>
                  <a:pt x="14858" y="124"/>
                </a:lnTo>
                <a:lnTo>
                  <a:pt x="14833" y="124"/>
                </a:lnTo>
                <a:lnTo>
                  <a:pt x="14660" y="174"/>
                </a:lnTo>
                <a:lnTo>
                  <a:pt x="14486" y="174"/>
                </a:lnTo>
                <a:lnTo>
                  <a:pt x="14238" y="174"/>
                </a:lnTo>
                <a:lnTo>
                  <a:pt x="14139" y="174"/>
                </a:lnTo>
                <a:lnTo>
                  <a:pt x="14114" y="174"/>
                </a:lnTo>
                <a:lnTo>
                  <a:pt x="14139" y="174"/>
                </a:lnTo>
                <a:lnTo>
                  <a:pt x="14362" y="174"/>
                </a:lnTo>
                <a:lnTo>
                  <a:pt x="14684" y="174"/>
                </a:lnTo>
                <a:lnTo>
                  <a:pt x="14932" y="174"/>
                </a:lnTo>
                <a:lnTo>
                  <a:pt x="14957" y="174"/>
                </a:lnTo>
                <a:lnTo>
                  <a:pt x="14957" y="174"/>
                </a:lnTo>
                <a:lnTo>
                  <a:pt x="14908" y="174"/>
                </a:lnTo>
                <a:lnTo>
                  <a:pt x="14610" y="174"/>
                </a:lnTo>
                <a:lnTo>
                  <a:pt x="14288" y="174"/>
                </a:lnTo>
                <a:lnTo>
                  <a:pt x="13866" y="174"/>
                </a:lnTo>
                <a:lnTo>
                  <a:pt x="13618" y="174"/>
                </a:lnTo>
                <a:lnTo>
                  <a:pt x="13543" y="174"/>
                </a:lnTo>
                <a:lnTo>
                  <a:pt x="13618" y="174"/>
                </a:lnTo>
                <a:lnTo>
                  <a:pt x="13791" y="174"/>
                </a:lnTo>
                <a:lnTo>
                  <a:pt x="14064" y="174"/>
                </a:lnTo>
                <a:lnTo>
                  <a:pt x="14486" y="174"/>
                </a:lnTo>
                <a:lnTo>
                  <a:pt x="14759" y="174"/>
                </a:lnTo>
                <a:lnTo>
                  <a:pt x="14833" y="174"/>
                </a:lnTo>
                <a:lnTo>
                  <a:pt x="14858" y="174"/>
                </a:lnTo>
                <a:lnTo>
                  <a:pt x="14833" y="174"/>
                </a:lnTo>
                <a:lnTo>
                  <a:pt x="14808" y="174"/>
                </a:lnTo>
                <a:lnTo>
                  <a:pt x="14883" y="174"/>
                </a:lnTo>
                <a:lnTo>
                  <a:pt x="15056" y="174"/>
                </a:lnTo>
                <a:lnTo>
                  <a:pt x="15180" y="174"/>
                </a:lnTo>
                <a:lnTo>
                  <a:pt x="15255" y="174"/>
                </a:lnTo>
                <a:lnTo>
                  <a:pt x="15205" y="174"/>
                </a:lnTo>
                <a:lnTo>
                  <a:pt x="14908" y="174"/>
                </a:lnTo>
                <a:lnTo>
                  <a:pt x="14436" y="174"/>
                </a:lnTo>
                <a:lnTo>
                  <a:pt x="13965" y="174"/>
                </a:lnTo>
                <a:lnTo>
                  <a:pt x="13643" y="174"/>
                </a:lnTo>
                <a:lnTo>
                  <a:pt x="13543" y="174"/>
                </a:lnTo>
                <a:lnTo>
                  <a:pt x="13543" y="149"/>
                </a:lnTo>
                <a:lnTo>
                  <a:pt x="13543" y="149"/>
                </a:lnTo>
                <a:lnTo>
                  <a:pt x="13717" y="149"/>
                </a:lnTo>
                <a:lnTo>
                  <a:pt x="14089" y="149"/>
                </a:lnTo>
                <a:lnTo>
                  <a:pt x="14660" y="149"/>
                </a:lnTo>
                <a:lnTo>
                  <a:pt x="15230" y="149"/>
                </a:lnTo>
                <a:lnTo>
                  <a:pt x="15701" y="149"/>
                </a:lnTo>
                <a:lnTo>
                  <a:pt x="15925" y="99"/>
                </a:lnTo>
                <a:lnTo>
                  <a:pt x="15949" y="99"/>
                </a:lnTo>
                <a:lnTo>
                  <a:pt x="15850" y="99"/>
                </a:lnTo>
                <a:lnTo>
                  <a:pt x="15503" y="99"/>
                </a:lnTo>
                <a:lnTo>
                  <a:pt x="15106" y="99"/>
                </a:lnTo>
                <a:lnTo>
                  <a:pt x="14734" y="99"/>
                </a:lnTo>
                <a:lnTo>
                  <a:pt x="14436" y="99"/>
                </a:lnTo>
                <a:lnTo>
                  <a:pt x="14337" y="99"/>
                </a:lnTo>
                <a:lnTo>
                  <a:pt x="14312" y="99"/>
                </a:lnTo>
                <a:lnTo>
                  <a:pt x="14337" y="99"/>
                </a:lnTo>
                <a:lnTo>
                  <a:pt x="14436" y="99"/>
                </a:lnTo>
                <a:lnTo>
                  <a:pt x="14560" y="99"/>
                </a:lnTo>
                <a:lnTo>
                  <a:pt x="14684" y="99"/>
                </a:lnTo>
                <a:lnTo>
                  <a:pt x="14759" y="99"/>
                </a:lnTo>
                <a:lnTo>
                  <a:pt x="14709" y="99"/>
                </a:lnTo>
                <a:lnTo>
                  <a:pt x="14536" y="99"/>
                </a:lnTo>
                <a:lnTo>
                  <a:pt x="14288" y="99"/>
                </a:lnTo>
                <a:lnTo>
                  <a:pt x="13965" y="99"/>
                </a:lnTo>
                <a:lnTo>
                  <a:pt x="13543" y="99"/>
                </a:lnTo>
                <a:lnTo>
                  <a:pt x="13072" y="99"/>
                </a:lnTo>
                <a:lnTo>
                  <a:pt x="12700" y="99"/>
                </a:lnTo>
                <a:lnTo>
                  <a:pt x="12477" y="99"/>
                </a:lnTo>
                <a:lnTo>
                  <a:pt x="12452" y="99"/>
                </a:lnTo>
                <a:lnTo>
                  <a:pt x="12502" y="99"/>
                </a:lnTo>
                <a:lnTo>
                  <a:pt x="12750" y="99"/>
                </a:lnTo>
                <a:lnTo>
                  <a:pt x="13171" y="99"/>
                </a:lnTo>
                <a:lnTo>
                  <a:pt x="13692" y="99"/>
                </a:lnTo>
                <a:lnTo>
                  <a:pt x="14163" y="99"/>
                </a:lnTo>
                <a:lnTo>
                  <a:pt x="14436" y="99"/>
                </a:lnTo>
                <a:lnTo>
                  <a:pt x="14536" y="99"/>
                </a:lnTo>
                <a:lnTo>
                  <a:pt x="14486" y="99"/>
                </a:lnTo>
                <a:lnTo>
                  <a:pt x="14312" y="99"/>
                </a:lnTo>
                <a:lnTo>
                  <a:pt x="13965" y="99"/>
                </a:lnTo>
                <a:lnTo>
                  <a:pt x="13469" y="99"/>
                </a:lnTo>
                <a:lnTo>
                  <a:pt x="13047" y="99"/>
                </a:lnTo>
                <a:lnTo>
                  <a:pt x="12675" y="99"/>
                </a:lnTo>
                <a:lnTo>
                  <a:pt x="12427" y="99"/>
                </a:lnTo>
                <a:lnTo>
                  <a:pt x="12353" y="99"/>
                </a:lnTo>
                <a:lnTo>
                  <a:pt x="12328" y="99"/>
                </a:lnTo>
                <a:lnTo>
                  <a:pt x="12303" y="99"/>
                </a:lnTo>
                <a:lnTo>
                  <a:pt x="12278" y="99"/>
                </a:lnTo>
                <a:lnTo>
                  <a:pt x="12254" y="99"/>
                </a:lnTo>
                <a:lnTo>
                  <a:pt x="12254" y="99"/>
                </a:lnTo>
                <a:lnTo>
                  <a:pt x="12378" y="99"/>
                </a:lnTo>
                <a:lnTo>
                  <a:pt x="12452" y="124"/>
                </a:lnTo>
                <a:lnTo>
                  <a:pt x="12526" y="124"/>
                </a:lnTo>
                <a:lnTo>
                  <a:pt x="12576" y="124"/>
                </a:lnTo>
                <a:lnTo>
                  <a:pt x="12601" y="124"/>
                </a:lnTo>
                <a:lnTo>
                  <a:pt x="12601" y="124"/>
                </a:lnTo>
                <a:lnTo>
                  <a:pt x="12650" y="124"/>
                </a:lnTo>
                <a:lnTo>
                  <a:pt x="12874" y="149"/>
                </a:lnTo>
                <a:lnTo>
                  <a:pt x="13196" y="149"/>
                </a:lnTo>
                <a:lnTo>
                  <a:pt x="13444" y="149"/>
                </a:lnTo>
                <a:lnTo>
                  <a:pt x="13667" y="149"/>
                </a:lnTo>
                <a:lnTo>
                  <a:pt x="13816" y="149"/>
                </a:lnTo>
                <a:lnTo>
                  <a:pt x="13866" y="149"/>
                </a:lnTo>
                <a:lnTo>
                  <a:pt x="13891" y="149"/>
                </a:lnTo>
                <a:lnTo>
                  <a:pt x="13915" y="149"/>
                </a:lnTo>
                <a:lnTo>
                  <a:pt x="13940" y="149"/>
                </a:lnTo>
                <a:lnTo>
                  <a:pt x="14015" y="149"/>
                </a:lnTo>
                <a:lnTo>
                  <a:pt x="14139" y="149"/>
                </a:lnTo>
                <a:lnTo>
                  <a:pt x="14312" y="149"/>
                </a:lnTo>
                <a:lnTo>
                  <a:pt x="14461" y="149"/>
                </a:lnTo>
                <a:lnTo>
                  <a:pt x="14585" y="149"/>
                </a:lnTo>
                <a:lnTo>
                  <a:pt x="14660" y="149"/>
                </a:lnTo>
                <a:lnTo>
                  <a:pt x="14759" y="174"/>
                </a:lnTo>
                <a:lnTo>
                  <a:pt x="14784" y="174"/>
                </a:lnTo>
                <a:lnTo>
                  <a:pt x="14833" y="174"/>
                </a:lnTo>
                <a:lnTo>
                  <a:pt x="14908" y="174"/>
                </a:lnTo>
                <a:lnTo>
                  <a:pt x="14957" y="174"/>
                </a:lnTo>
                <a:lnTo>
                  <a:pt x="15007" y="198"/>
                </a:lnTo>
                <a:lnTo>
                  <a:pt x="15056" y="223"/>
                </a:lnTo>
                <a:lnTo>
                  <a:pt x="15131" y="248"/>
                </a:lnTo>
                <a:lnTo>
                  <a:pt x="15180" y="273"/>
                </a:lnTo>
                <a:lnTo>
                  <a:pt x="15205" y="273"/>
                </a:lnTo>
                <a:lnTo>
                  <a:pt x="15205" y="273"/>
                </a:lnTo>
                <a:lnTo>
                  <a:pt x="15131" y="273"/>
                </a:lnTo>
                <a:lnTo>
                  <a:pt x="15007" y="298"/>
                </a:lnTo>
                <a:lnTo>
                  <a:pt x="14858" y="322"/>
                </a:lnTo>
                <a:lnTo>
                  <a:pt x="14684" y="322"/>
                </a:lnTo>
                <a:lnTo>
                  <a:pt x="14387" y="322"/>
                </a:lnTo>
                <a:lnTo>
                  <a:pt x="14163" y="322"/>
                </a:lnTo>
                <a:lnTo>
                  <a:pt x="14039" y="322"/>
                </a:lnTo>
                <a:lnTo>
                  <a:pt x="13965" y="322"/>
                </a:lnTo>
                <a:lnTo>
                  <a:pt x="14039" y="322"/>
                </a:lnTo>
                <a:lnTo>
                  <a:pt x="14139" y="322"/>
                </a:lnTo>
                <a:lnTo>
                  <a:pt x="14238" y="322"/>
                </a:lnTo>
                <a:lnTo>
                  <a:pt x="14387" y="322"/>
                </a:lnTo>
                <a:lnTo>
                  <a:pt x="14461" y="322"/>
                </a:lnTo>
                <a:lnTo>
                  <a:pt x="14461" y="322"/>
                </a:lnTo>
                <a:lnTo>
                  <a:pt x="14486" y="322"/>
                </a:lnTo>
                <a:lnTo>
                  <a:pt x="14511" y="322"/>
                </a:lnTo>
                <a:lnTo>
                  <a:pt x="14585" y="322"/>
                </a:lnTo>
                <a:lnTo>
                  <a:pt x="14635" y="322"/>
                </a:lnTo>
                <a:lnTo>
                  <a:pt x="14660" y="322"/>
                </a:lnTo>
                <a:lnTo>
                  <a:pt x="14734" y="322"/>
                </a:lnTo>
                <a:lnTo>
                  <a:pt x="14784" y="322"/>
                </a:lnTo>
                <a:lnTo>
                  <a:pt x="14784" y="322"/>
                </a:lnTo>
                <a:lnTo>
                  <a:pt x="14734" y="322"/>
                </a:lnTo>
                <a:lnTo>
                  <a:pt x="14585" y="322"/>
                </a:lnTo>
                <a:lnTo>
                  <a:pt x="14362" y="322"/>
                </a:lnTo>
                <a:lnTo>
                  <a:pt x="14213" y="322"/>
                </a:lnTo>
                <a:lnTo>
                  <a:pt x="14213" y="298"/>
                </a:lnTo>
                <a:lnTo>
                  <a:pt x="14337" y="273"/>
                </a:lnTo>
                <a:lnTo>
                  <a:pt x="14585" y="273"/>
                </a:lnTo>
                <a:lnTo>
                  <a:pt x="14957" y="273"/>
                </a:lnTo>
                <a:lnTo>
                  <a:pt x="15329" y="273"/>
                </a:lnTo>
                <a:lnTo>
                  <a:pt x="15701" y="273"/>
                </a:lnTo>
                <a:lnTo>
                  <a:pt x="15949" y="223"/>
                </a:lnTo>
                <a:lnTo>
                  <a:pt x="16148" y="198"/>
                </a:lnTo>
                <a:lnTo>
                  <a:pt x="16247" y="124"/>
                </a:lnTo>
              </a:path>
              <a:path w="17736" h="497">
                <a:moveTo>
                  <a:pt x="16197" y="174"/>
                </a:moveTo>
                <a:lnTo>
                  <a:pt x="16197" y="198"/>
                </a:lnTo>
                <a:lnTo>
                  <a:pt x="16197" y="198"/>
                </a:lnTo>
                <a:lnTo>
                  <a:pt x="16197" y="248"/>
                </a:lnTo>
                <a:lnTo>
                  <a:pt x="16197" y="298"/>
                </a:lnTo>
                <a:lnTo>
                  <a:pt x="16173" y="322"/>
                </a:lnTo>
                <a:lnTo>
                  <a:pt x="16173" y="347"/>
                </a:lnTo>
                <a:lnTo>
                  <a:pt x="16148" y="372"/>
                </a:lnTo>
                <a:lnTo>
                  <a:pt x="16148" y="397"/>
                </a:lnTo>
                <a:lnTo>
                  <a:pt x="16148" y="397"/>
                </a:lnTo>
                <a:lnTo>
                  <a:pt x="16197" y="397"/>
                </a:lnTo>
                <a:lnTo>
                  <a:pt x="16222" y="397"/>
                </a:lnTo>
                <a:lnTo>
                  <a:pt x="16272" y="397"/>
                </a:lnTo>
                <a:lnTo>
                  <a:pt x="16272" y="397"/>
                </a:lnTo>
                <a:lnTo>
                  <a:pt x="16222" y="397"/>
                </a:lnTo>
                <a:lnTo>
                  <a:pt x="16049" y="397"/>
                </a:lnTo>
                <a:lnTo>
                  <a:pt x="15900" y="397"/>
                </a:lnTo>
                <a:lnTo>
                  <a:pt x="15825" y="397"/>
                </a:lnTo>
                <a:lnTo>
                  <a:pt x="15801" y="397"/>
                </a:lnTo>
                <a:lnTo>
                  <a:pt x="15825" y="397"/>
                </a:lnTo>
                <a:lnTo>
                  <a:pt x="15974" y="397"/>
                </a:lnTo>
                <a:lnTo>
                  <a:pt x="16173" y="347"/>
                </a:lnTo>
                <a:lnTo>
                  <a:pt x="16346" y="347"/>
                </a:lnTo>
                <a:lnTo>
                  <a:pt x="16545" y="298"/>
                </a:lnTo>
                <a:lnTo>
                  <a:pt x="16743" y="273"/>
                </a:lnTo>
                <a:lnTo>
                  <a:pt x="16917" y="198"/>
                </a:lnTo>
                <a:lnTo>
                  <a:pt x="16966" y="174"/>
                </a:lnTo>
                <a:lnTo>
                  <a:pt x="16917" y="174"/>
                </a:lnTo>
                <a:lnTo>
                  <a:pt x="16743" y="174"/>
                </a:lnTo>
                <a:lnTo>
                  <a:pt x="16495" y="174"/>
                </a:lnTo>
                <a:lnTo>
                  <a:pt x="16247" y="174"/>
                </a:lnTo>
                <a:lnTo>
                  <a:pt x="16024" y="174"/>
                </a:lnTo>
                <a:lnTo>
                  <a:pt x="15825" y="174"/>
                </a:lnTo>
                <a:lnTo>
                  <a:pt x="15677" y="174"/>
                </a:lnTo>
                <a:lnTo>
                  <a:pt x="15652" y="174"/>
                </a:lnTo>
                <a:lnTo>
                  <a:pt x="15627" y="174"/>
                </a:lnTo>
                <a:lnTo>
                  <a:pt x="15602" y="174"/>
                </a:lnTo>
                <a:lnTo>
                  <a:pt x="15627" y="174"/>
                </a:lnTo>
                <a:lnTo>
                  <a:pt x="15850" y="174"/>
                </a:lnTo>
                <a:lnTo>
                  <a:pt x="16073" y="174"/>
                </a:lnTo>
                <a:lnTo>
                  <a:pt x="16321" y="174"/>
                </a:lnTo>
                <a:lnTo>
                  <a:pt x="16470" y="174"/>
                </a:lnTo>
                <a:lnTo>
                  <a:pt x="16495" y="174"/>
                </a:lnTo>
                <a:lnTo>
                  <a:pt x="16495" y="174"/>
                </a:lnTo>
                <a:lnTo>
                  <a:pt x="16346" y="198"/>
                </a:lnTo>
                <a:lnTo>
                  <a:pt x="16073" y="248"/>
                </a:lnTo>
                <a:lnTo>
                  <a:pt x="15825" y="248"/>
                </a:lnTo>
                <a:lnTo>
                  <a:pt x="15602" y="273"/>
                </a:lnTo>
                <a:lnTo>
                  <a:pt x="15404" y="273"/>
                </a:lnTo>
                <a:lnTo>
                  <a:pt x="15304" y="298"/>
                </a:lnTo>
                <a:lnTo>
                  <a:pt x="15280" y="298"/>
                </a:lnTo>
                <a:lnTo>
                  <a:pt x="15304" y="298"/>
                </a:lnTo>
                <a:lnTo>
                  <a:pt x="15404" y="298"/>
                </a:lnTo>
                <a:lnTo>
                  <a:pt x="15627" y="298"/>
                </a:lnTo>
                <a:lnTo>
                  <a:pt x="15925" y="298"/>
                </a:lnTo>
                <a:lnTo>
                  <a:pt x="16197" y="298"/>
                </a:lnTo>
                <a:lnTo>
                  <a:pt x="16346" y="298"/>
                </a:lnTo>
                <a:lnTo>
                  <a:pt x="16421" y="298"/>
                </a:lnTo>
                <a:lnTo>
                  <a:pt x="16396" y="298"/>
                </a:lnTo>
                <a:lnTo>
                  <a:pt x="16371" y="298"/>
                </a:lnTo>
                <a:lnTo>
                  <a:pt x="16297" y="298"/>
                </a:lnTo>
                <a:lnTo>
                  <a:pt x="16222" y="347"/>
                </a:lnTo>
                <a:lnTo>
                  <a:pt x="16173" y="347"/>
                </a:lnTo>
                <a:lnTo>
                  <a:pt x="16148" y="347"/>
                </a:lnTo>
                <a:lnTo>
                  <a:pt x="16148" y="347"/>
                </a:lnTo>
                <a:lnTo>
                  <a:pt x="16222" y="347"/>
                </a:lnTo>
                <a:lnTo>
                  <a:pt x="16396" y="347"/>
                </a:lnTo>
                <a:lnTo>
                  <a:pt x="16694" y="347"/>
                </a:lnTo>
                <a:lnTo>
                  <a:pt x="16966" y="347"/>
                </a:lnTo>
                <a:lnTo>
                  <a:pt x="17115" y="347"/>
                </a:lnTo>
                <a:lnTo>
                  <a:pt x="17190" y="347"/>
                </a:lnTo>
                <a:lnTo>
                  <a:pt x="17165" y="347"/>
                </a:lnTo>
                <a:lnTo>
                  <a:pt x="16966" y="347"/>
                </a:lnTo>
                <a:lnTo>
                  <a:pt x="16694" y="347"/>
                </a:lnTo>
                <a:lnTo>
                  <a:pt x="16396" y="347"/>
                </a:lnTo>
                <a:lnTo>
                  <a:pt x="16173" y="347"/>
                </a:lnTo>
                <a:lnTo>
                  <a:pt x="16073" y="347"/>
                </a:lnTo>
                <a:lnTo>
                  <a:pt x="15999" y="347"/>
                </a:lnTo>
                <a:lnTo>
                  <a:pt x="15974" y="347"/>
                </a:lnTo>
                <a:lnTo>
                  <a:pt x="15999" y="347"/>
                </a:lnTo>
                <a:lnTo>
                  <a:pt x="16148" y="347"/>
                </a:lnTo>
                <a:lnTo>
                  <a:pt x="16396" y="273"/>
                </a:lnTo>
                <a:lnTo>
                  <a:pt x="16718" y="149"/>
                </a:lnTo>
                <a:lnTo>
                  <a:pt x="17140" y="149"/>
                </a:lnTo>
                <a:lnTo>
                  <a:pt x="17438" y="99"/>
                </a:lnTo>
                <a:lnTo>
                  <a:pt x="17537" y="99"/>
                </a:lnTo>
                <a:lnTo>
                  <a:pt x="17562" y="99"/>
                </a:lnTo>
                <a:lnTo>
                  <a:pt x="17512" y="99"/>
                </a:lnTo>
                <a:lnTo>
                  <a:pt x="17289" y="99"/>
                </a:lnTo>
                <a:lnTo>
                  <a:pt x="16966" y="99"/>
                </a:lnTo>
                <a:lnTo>
                  <a:pt x="16495" y="99"/>
                </a:lnTo>
                <a:lnTo>
                  <a:pt x="16073" y="99"/>
                </a:lnTo>
                <a:lnTo>
                  <a:pt x="15701" y="99"/>
                </a:lnTo>
                <a:lnTo>
                  <a:pt x="15478" y="99"/>
                </a:lnTo>
                <a:lnTo>
                  <a:pt x="15404" y="99"/>
                </a:lnTo>
                <a:lnTo>
                  <a:pt x="15404" y="99"/>
                </a:lnTo>
                <a:lnTo>
                  <a:pt x="15453" y="74"/>
                </a:lnTo>
                <a:lnTo>
                  <a:pt x="15528" y="50"/>
                </a:lnTo>
                <a:lnTo>
                  <a:pt x="15701" y="50"/>
                </a:lnTo>
                <a:lnTo>
                  <a:pt x="16049" y="50"/>
                </a:lnTo>
                <a:lnTo>
                  <a:pt x="16446" y="50"/>
                </a:lnTo>
                <a:lnTo>
                  <a:pt x="16867" y="50"/>
                </a:lnTo>
                <a:lnTo>
                  <a:pt x="17214" y="50"/>
                </a:lnTo>
                <a:lnTo>
                  <a:pt x="17314" y="50"/>
                </a:lnTo>
                <a:lnTo>
                  <a:pt x="17190" y="50"/>
                </a:lnTo>
                <a:lnTo>
                  <a:pt x="16867" y="50"/>
                </a:lnTo>
                <a:lnTo>
                  <a:pt x="16446" y="50"/>
                </a:lnTo>
                <a:lnTo>
                  <a:pt x="15974" y="50"/>
                </a:lnTo>
                <a:lnTo>
                  <a:pt x="15602" y="50"/>
                </a:lnTo>
                <a:lnTo>
                  <a:pt x="15379" y="50"/>
                </a:lnTo>
                <a:lnTo>
                  <a:pt x="15354" y="50"/>
                </a:lnTo>
                <a:lnTo>
                  <a:pt x="15404" y="50"/>
                </a:lnTo>
                <a:lnTo>
                  <a:pt x="15652" y="50"/>
                </a:lnTo>
                <a:lnTo>
                  <a:pt x="16173" y="50"/>
                </a:lnTo>
                <a:lnTo>
                  <a:pt x="16743" y="50"/>
                </a:lnTo>
                <a:lnTo>
                  <a:pt x="17413" y="50"/>
                </a:lnTo>
                <a:lnTo>
                  <a:pt x="17934" y="50"/>
                </a:lnTo>
                <a:lnTo>
                  <a:pt x="18256" y="50"/>
                </a:lnTo>
                <a:lnTo>
                  <a:pt x="18355" y="50"/>
                </a:lnTo>
                <a:lnTo>
                  <a:pt x="18380" y="25"/>
                </a:lnTo>
                <a:lnTo>
                  <a:pt x="18331" y="25"/>
                </a:lnTo>
                <a:lnTo>
                  <a:pt x="18182" y="25"/>
                </a:lnTo>
                <a:lnTo>
                  <a:pt x="17959" y="25"/>
                </a:lnTo>
                <a:lnTo>
                  <a:pt x="17711" y="25"/>
                </a:lnTo>
                <a:lnTo>
                  <a:pt x="17487" y="25"/>
                </a:lnTo>
                <a:lnTo>
                  <a:pt x="17338" y="25"/>
                </a:lnTo>
                <a:lnTo>
                  <a:pt x="17214" y="25"/>
                </a:lnTo>
                <a:lnTo>
                  <a:pt x="17214" y="25"/>
                </a:lnTo>
                <a:lnTo>
                  <a:pt x="17190" y="25"/>
                </a:lnTo>
                <a:lnTo>
                  <a:pt x="17190" y="25"/>
                </a:lnTo>
                <a:lnTo>
                  <a:pt x="17140" y="25"/>
                </a:lnTo>
                <a:lnTo>
                  <a:pt x="16942" y="50"/>
                </a:lnTo>
                <a:lnTo>
                  <a:pt x="16768" y="74"/>
                </a:lnTo>
                <a:lnTo>
                  <a:pt x="16545" y="149"/>
                </a:lnTo>
                <a:lnTo>
                  <a:pt x="16396" y="198"/>
                </a:lnTo>
                <a:lnTo>
                  <a:pt x="16346" y="223"/>
                </a:lnTo>
                <a:lnTo>
                  <a:pt x="16446" y="223"/>
                </a:lnTo>
                <a:lnTo>
                  <a:pt x="16694" y="223"/>
                </a:lnTo>
                <a:lnTo>
                  <a:pt x="17115" y="223"/>
                </a:lnTo>
                <a:lnTo>
                  <a:pt x="17587" y="223"/>
                </a:lnTo>
                <a:lnTo>
                  <a:pt x="17983" y="223"/>
                </a:lnTo>
                <a:lnTo>
                  <a:pt x="18331" y="223"/>
                </a:lnTo>
                <a:lnTo>
                  <a:pt x="18405" y="223"/>
                </a:lnTo>
                <a:lnTo>
                  <a:pt x="18430" y="223"/>
                </a:lnTo>
                <a:lnTo>
                  <a:pt x="18405" y="223"/>
                </a:lnTo>
                <a:lnTo>
                  <a:pt x="18207" y="248"/>
                </a:lnTo>
                <a:lnTo>
                  <a:pt x="17934" y="248"/>
                </a:lnTo>
                <a:lnTo>
                  <a:pt x="17636" y="248"/>
                </a:lnTo>
                <a:lnTo>
                  <a:pt x="17363" y="248"/>
                </a:lnTo>
                <a:lnTo>
                  <a:pt x="17115" y="248"/>
                </a:lnTo>
                <a:lnTo>
                  <a:pt x="17016" y="248"/>
                </a:lnTo>
                <a:lnTo>
                  <a:pt x="16942" y="273"/>
                </a:lnTo>
                <a:lnTo>
                  <a:pt x="16942" y="273"/>
                </a:lnTo>
                <a:lnTo>
                  <a:pt x="16892" y="298"/>
                </a:lnTo>
                <a:lnTo>
                  <a:pt x="16867" y="298"/>
                </a:lnTo>
                <a:lnTo>
                  <a:pt x="16818" y="322"/>
                </a:lnTo>
                <a:lnTo>
                  <a:pt x="16743" y="322"/>
                </a:lnTo>
                <a:lnTo>
                  <a:pt x="16718" y="322"/>
                </a:lnTo>
                <a:lnTo>
                  <a:pt x="16718" y="347"/>
                </a:lnTo>
                <a:lnTo>
                  <a:pt x="16743" y="347"/>
                </a:lnTo>
                <a:lnTo>
                  <a:pt x="16991" y="347"/>
                </a:lnTo>
                <a:lnTo>
                  <a:pt x="17338" y="347"/>
                </a:lnTo>
                <a:lnTo>
                  <a:pt x="17760" y="347"/>
                </a:lnTo>
                <a:lnTo>
                  <a:pt x="18033" y="347"/>
                </a:lnTo>
                <a:lnTo>
                  <a:pt x="18231" y="298"/>
                </a:lnTo>
                <a:lnTo>
                  <a:pt x="18306" y="298"/>
                </a:lnTo>
                <a:lnTo>
                  <a:pt x="18281" y="298"/>
                </a:lnTo>
                <a:lnTo>
                  <a:pt x="18231" y="298"/>
                </a:lnTo>
                <a:lnTo>
                  <a:pt x="18008" y="298"/>
                </a:lnTo>
                <a:lnTo>
                  <a:pt x="17735" y="298"/>
                </a:lnTo>
                <a:lnTo>
                  <a:pt x="17363" y="298"/>
                </a:lnTo>
                <a:lnTo>
                  <a:pt x="17041" y="298"/>
                </a:lnTo>
                <a:lnTo>
                  <a:pt x="16793" y="298"/>
                </a:lnTo>
                <a:lnTo>
                  <a:pt x="16694" y="298"/>
                </a:lnTo>
                <a:lnTo>
                  <a:pt x="16669" y="298"/>
                </a:lnTo>
                <a:lnTo>
                  <a:pt x="16669" y="298"/>
                </a:lnTo>
                <a:lnTo>
                  <a:pt x="16743" y="298"/>
                </a:lnTo>
                <a:lnTo>
                  <a:pt x="16917" y="298"/>
                </a:lnTo>
                <a:lnTo>
                  <a:pt x="17239" y="298"/>
                </a:lnTo>
                <a:lnTo>
                  <a:pt x="17611" y="298"/>
                </a:lnTo>
                <a:lnTo>
                  <a:pt x="18008" y="298"/>
                </a:lnTo>
                <a:lnTo>
                  <a:pt x="18380" y="248"/>
                </a:lnTo>
                <a:lnTo>
                  <a:pt x="18604" y="248"/>
                </a:lnTo>
                <a:lnTo>
                  <a:pt x="18728" y="198"/>
                </a:lnTo>
                <a:lnTo>
                  <a:pt x="18777" y="149"/>
                </a:lnTo>
                <a:lnTo>
                  <a:pt x="18653" y="149"/>
                </a:lnTo>
                <a:lnTo>
                  <a:pt x="18455" y="149"/>
                </a:lnTo>
                <a:lnTo>
                  <a:pt x="18157" y="149"/>
                </a:lnTo>
                <a:lnTo>
                  <a:pt x="17934" y="149"/>
                </a:lnTo>
                <a:lnTo>
                  <a:pt x="17785" y="149"/>
                </a:lnTo>
                <a:lnTo>
                  <a:pt x="17735" y="149"/>
                </a:lnTo>
                <a:lnTo>
                  <a:pt x="17735" y="149"/>
                </a:lnTo>
                <a:lnTo>
                  <a:pt x="17810" y="124"/>
                </a:lnTo>
                <a:lnTo>
                  <a:pt x="17959" y="74"/>
                </a:lnTo>
                <a:lnTo>
                  <a:pt x="18182" y="74"/>
                </a:lnTo>
                <a:lnTo>
                  <a:pt x="18554" y="74"/>
                </a:lnTo>
                <a:lnTo>
                  <a:pt x="18951" y="74"/>
                </a:lnTo>
                <a:lnTo>
                  <a:pt x="19348" y="74"/>
                </a:lnTo>
                <a:lnTo>
                  <a:pt x="19546" y="74"/>
                </a:lnTo>
                <a:lnTo>
                  <a:pt x="19571" y="50"/>
                </a:lnTo>
                <a:lnTo>
                  <a:pt x="19472" y="50"/>
                </a:lnTo>
                <a:lnTo>
                  <a:pt x="19174" y="50"/>
                </a:lnTo>
                <a:lnTo>
                  <a:pt x="18752" y="50"/>
                </a:lnTo>
                <a:lnTo>
                  <a:pt x="18281" y="50"/>
                </a:lnTo>
                <a:lnTo>
                  <a:pt x="17785" y="50"/>
                </a:lnTo>
                <a:lnTo>
                  <a:pt x="17363" y="50"/>
                </a:lnTo>
                <a:lnTo>
                  <a:pt x="17041" y="50"/>
                </a:lnTo>
                <a:lnTo>
                  <a:pt x="16917" y="50"/>
                </a:lnTo>
                <a:lnTo>
                  <a:pt x="16942" y="50"/>
                </a:lnTo>
                <a:lnTo>
                  <a:pt x="17289" y="50"/>
                </a:lnTo>
                <a:lnTo>
                  <a:pt x="17686" y="50"/>
                </a:lnTo>
                <a:lnTo>
                  <a:pt x="18207" y="50"/>
                </a:lnTo>
                <a:lnTo>
                  <a:pt x="18728" y="50"/>
                </a:lnTo>
                <a:lnTo>
                  <a:pt x="19100" y="50"/>
                </a:lnTo>
                <a:lnTo>
                  <a:pt x="19248" y="50"/>
                </a:lnTo>
                <a:lnTo>
                  <a:pt x="19248" y="50"/>
                </a:lnTo>
                <a:lnTo>
                  <a:pt x="19199" y="50"/>
                </a:lnTo>
                <a:lnTo>
                  <a:pt x="19025" y="50"/>
                </a:lnTo>
                <a:lnTo>
                  <a:pt x="18678" y="50"/>
                </a:lnTo>
                <a:lnTo>
                  <a:pt x="18281" y="50"/>
                </a:lnTo>
                <a:lnTo>
                  <a:pt x="17884" y="50"/>
                </a:lnTo>
                <a:lnTo>
                  <a:pt x="17512" y="50"/>
                </a:lnTo>
                <a:lnTo>
                  <a:pt x="17388" y="50"/>
                </a:lnTo>
                <a:lnTo>
                  <a:pt x="17363" y="50"/>
                </a:lnTo>
                <a:lnTo>
                  <a:pt x="17338" y="50"/>
                </a:lnTo>
                <a:lnTo>
                  <a:pt x="17338" y="50"/>
                </a:lnTo>
                <a:lnTo>
                  <a:pt x="17338" y="74"/>
                </a:lnTo>
                <a:lnTo>
                  <a:pt x="17413" y="99"/>
                </a:lnTo>
                <a:lnTo>
                  <a:pt x="17562" y="124"/>
                </a:lnTo>
                <a:lnTo>
                  <a:pt x="17785" y="198"/>
                </a:lnTo>
                <a:lnTo>
                  <a:pt x="17934" y="273"/>
                </a:lnTo>
                <a:lnTo>
                  <a:pt x="18132" y="322"/>
                </a:lnTo>
                <a:lnTo>
                  <a:pt x="18207" y="322"/>
                </a:lnTo>
                <a:lnTo>
                  <a:pt x="18231" y="322"/>
                </a:lnTo>
                <a:lnTo>
                  <a:pt x="18182" y="322"/>
                </a:lnTo>
                <a:lnTo>
                  <a:pt x="18107" y="322"/>
                </a:lnTo>
                <a:lnTo>
                  <a:pt x="17959" y="322"/>
                </a:lnTo>
                <a:lnTo>
                  <a:pt x="17760" y="322"/>
                </a:lnTo>
                <a:lnTo>
                  <a:pt x="17587" y="322"/>
                </a:lnTo>
                <a:lnTo>
                  <a:pt x="17388" y="322"/>
                </a:lnTo>
                <a:lnTo>
                  <a:pt x="17314" y="322"/>
                </a:lnTo>
                <a:lnTo>
                  <a:pt x="17239" y="248"/>
                </a:lnTo>
                <a:lnTo>
                  <a:pt x="17165" y="248"/>
                </a:lnTo>
                <a:lnTo>
                  <a:pt x="17140" y="223"/>
                </a:lnTo>
                <a:lnTo>
                  <a:pt x="17140" y="223"/>
                </a:lnTo>
                <a:lnTo>
                  <a:pt x="17214" y="223"/>
                </a:lnTo>
                <a:lnTo>
                  <a:pt x="17363" y="223"/>
                </a:lnTo>
                <a:lnTo>
                  <a:pt x="17587" y="223"/>
                </a:lnTo>
                <a:lnTo>
                  <a:pt x="17884" y="223"/>
                </a:lnTo>
                <a:lnTo>
                  <a:pt x="18058" y="223"/>
                </a:lnTo>
                <a:lnTo>
                  <a:pt x="18207" y="223"/>
                </a:lnTo>
                <a:lnTo>
                  <a:pt x="18256" y="223"/>
                </a:lnTo>
                <a:lnTo>
                  <a:pt x="18231" y="223"/>
                </a:lnTo>
                <a:lnTo>
                  <a:pt x="18058" y="223"/>
                </a:lnTo>
                <a:lnTo>
                  <a:pt x="17785" y="223"/>
                </a:lnTo>
                <a:lnTo>
                  <a:pt x="17512" y="223"/>
                </a:lnTo>
                <a:lnTo>
                  <a:pt x="17214" y="223"/>
                </a:lnTo>
                <a:lnTo>
                  <a:pt x="17115" y="223"/>
                </a:lnTo>
                <a:lnTo>
                  <a:pt x="17041" y="223"/>
                </a:lnTo>
                <a:lnTo>
                  <a:pt x="17041" y="223"/>
                </a:lnTo>
                <a:lnTo>
                  <a:pt x="17090" y="223"/>
                </a:lnTo>
                <a:lnTo>
                  <a:pt x="17165" y="223"/>
                </a:lnTo>
                <a:lnTo>
                  <a:pt x="17314" y="223"/>
                </a:lnTo>
                <a:lnTo>
                  <a:pt x="17462" y="223"/>
                </a:lnTo>
                <a:lnTo>
                  <a:pt x="17562" y="223"/>
                </a:lnTo>
                <a:lnTo>
                  <a:pt x="17636" y="223"/>
                </a:lnTo>
                <a:lnTo>
                  <a:pt x="17686" y="223"/>
                </a:lnTo>
                <a:lnTo>
                  <a:pt x="17760" y="223"/>
                </a:lnTo>
                <a:lnTo>
                  <a:pt x="17760" y="198"/>
                </a:lnTo>
                <a:lnTo>
                  <a:pt x="17735" y="198"/>
                </a:lnTo>
                <a:lnTo>
                  <a:pt x="17636" y="198"/>
                </a:lnTo>
                <a:lnTo>
                  <a:pt x="17512" y="124"/>
                </a:lnTo>
                <a:lnTo>
                  <a:pt x="17363" y="99"/>
                </a:lnTo>
                <a:lnTo>
                  <a:pt x="17190" y="99"/>
                </a:lnTo>
                <a:lnTo>
                  <a:pt x="16966" y="25"/>
                </a:lnTo>
                <a:lnTo>
                  <a:pt x="16842" y="25"/>
                </a:lnTo>
                <a:lnTo>
                  <a:pt x="16718" y="25"/>
                </a:lnTo>
                <a:lnTo>
                  <a:pt x="16718" y="25"/>
                </a:lnTo>
                <a:lnTo>
                  <a:pt x="16743" y="25"/>
                </a:lnTo>
                <a:lnTo>
                  <a:pt x="16917" y="25"/>
                </a:lnTo>
                <a:lnTo>
                  <a:pt x="17165" y="25"/>
                </a:lnTo>
                <a:lnTo>
                  <a:pt x="17487" y="25"/>
                </a:lnTo>
                <a:lnTo>
                  <a:pt x="17859" y="25"/>
                </a:lnTo>
                <a:lnTo>
                  <a:pt x="18107" y="25"/>
                </a:lnTo>
                <a:lnTo>
                  <a:pt x="18256" y="25"/>
                </a:lnTo>
                <a:lnTo>
                  <a:pt x="18281" y="0"/>
                </a:lnTo>
                <a:lnTo>
                  <a:pt x="18256" y="0"/>
                </a:lnTo>
                <a:lnTo>
                  <a:pt x="18182" y="0"/>
                </a:lnTo>
                <a:lnTo>
                  <a:pt x="18008" y="0"/>
                </a:lnTo>
                <a:lnTo>
                  <a:pt x="17760" y="0"/>
                </a:lnTo>
                <a:lnTo>
                  <a:pt x="17487" y="0"/>
                </a:lnTo>
                <a:lnTo>
                  <a:pt x="16991" y="0"/>
                </a:lnTo>
                <a:lnTo>
                  <a:pt x="17090" y="0"/>
                </a:lnTo>
                <a:lnTo>
                  <a:pt x="17338" y="0"/>
                </a:lnTo>
                <a:lnTo>
                  <a:pt x="17711" y="0"/>
                </a:lnTo>
                <a:lnTo>
                  <a:pt x="18033" y="0"/>
                </a:lnTo>
                <a:lnTo>
                  <a:pt x="18355" y="0"/>
                </a:lnTo>
                <a:lnTo>
                  <a:pt x="18604" y="0"/>
                </a:lnTo>
                <a:lnTo>
                  <a:pt x="18703" y="0"/>
                </a:lnTo>
                <a:lnTo>
                  <a:pt x="18728" y="0"/>
                </a:lnTo>
                <a:lnTo>
                  <a:pt x="18752" y="0"/>
                </a:lnTo>
                <a:lnTo>
                  <a:pt x="18678" y="0"/>
                </a:lnTo>
                <a:lnTo>
                  <a:pt x="18455" y="0"/>
                </a:lnTo>
                <a:lnTo>
                  <a:pt x="18132" y="0"/>
                </a:lnTo>
                <a:lnTo>
                  <a:pt x="17760" y="0"/>
                </a:lnTo>
                <a:lnTo>
                  <a:pt x="17462" y="0"/>
                </a:lnTo>
                <a:lnTo>
                  <a:pt x="17338" y="0"/>
                </a:lnTo>
                <a:lnTo>
                  <a:pt x="17289" y="0"/>
                </a:lnTo>
                <a:lnTo>
                  <a:pt x="17264" y="0"/>
                </a:lnTo>
                <a:lnTo>
                  <a:pt x="17314" y="0"/>
                </a:lnTo>
                <a:lnTo>
                  <a:pt x="17388" y="0"/>
                </a:lnTo>
                <a:lnTo>
                  <a:pt x="17562" y="0"/>
                </a:lnTo>
                <a:lnTo>
                  <a:pt x="17760" y="0"/>
                </a:lnTo>
                <a:lnTo>
                  <a:pt x="18008" y="0"/>
                </a:lnTo>
                <a:lnTo>
                  <a:pt x="18231" y="0"/>
                </a:lnTo>
                <a:lnTo>
                  <a:pt x="18430" y="0"/>
                </a:lnTo>
                <a:lnTo>
                  <a:pt x="18529" y="0"/>
                </a:lnTo>
                <a:lnTo>
                  <a:pt x="18554" y="0"/>
                </a:lnTo>
                <a:lnTo>
                  <a:pt x="18579" y="0"/>
                </a:lnTo>
                <a:lnTo>
                  <a:pt x="18579" y="0"/>
                </a:lnTo>
                <a:lnTo>
                  <a:pt x="18579" y="0"/>
                </a:lnTo>
                <a:lnTo>
                  <a:pt x="18604" y="0"/>
                </a:lnTo>
                <a:lnTo>
                  <a:pt x="18628" y="25"/>
                </a:lnTo>
                <a:lnTo>
                  <a:pt x="18678" y="25"/>
                </a:lnTo>
                <a:lnTo>
                  <a:pt x="18678" y="25"/>
                </a:lnTo>
                <a:lnTo>
                  <a:pt x="18752" y="50"/>
                </a:lnTo>
                <a:lnTo>
                  <a:pt x="18802" y="50"/>
                </a:lnTo>
                <a:lnTo>
                  <a:pt x="18876" y="74"/>
                </a:lnTo>
                <a:lnTo>
                  <a:pt x="18901" y="74"/>
                </a:lnTo>
                <a:lnTo>
                  <a:pt x="18926" y="74"/>
                </a:lnTo>
                <a:lnTo>
                  <a:pt x="18951" y="74"/>
                </a:lnTo>
                <a:lnTo>
                  <a:pt x="18951" y="74"/>
                </a:lnTo>
                <a:lnTo>
                  <a:pt x="18951" y="99"/>
                </a:lnTo>
                <a:lnTo>
                  <a:pt x="18951" y="124"/>
                </a:lnTo>
                <a:lnTo>
                  <a:pt x="18951" y="149"/>
                </a:lnTo>
                <a:lnTo>
                  <a:pt x="18951" y="174"/>
                </a:lnTo>
                <a:lnTo>
                  <a:pt x="18901" y="273"/>
                </a:lnTo>
                <a:lnTo>
                  <a:pt x="18901" y="273"/>
                </a:lnTo>
                <a:lnTo>
                  <a:pt x="18852" y="322"/>
                </a:lnTo>
                <a:lnTo>
                  <a:pt x="18802" y="372"/>
                </a:lnTo>
                <a:lnTo>
                  <a:pt x="18752" y="397"/>
                </a:lnTo>
                <a:lnTo>
                  <a:pt x="18703" y="422"/>
                </a:lnTo>
                <a:lnTo>
                  <a:pt x="18678" y="446"/>
                </a:lnTo>
                <a:lnTo>
                  <a:pt x="18653" y="471"/>
                </a:lnTo>
                <a:lnTo>
                  <a:pt x="18628" y="471"/>
                </a:lnTo>
                <a:lnTo>
                  <a:pt x="18628" y="446"/>
                </a:lnTo>
                <a:lnTo>
                  <a:pt x="18579" y="446"/>
                </a:lnTo>
                <a:lnTo>
                  <a:pt x="18529" y="422"/>
                </a:lnTo>
                <a:lnTo>
                  <a:pt x="18430" y="372"/>
                </a:lnTo>
                <a:lnTo>
                  <a:pt x="18256" y="347"/>
                </a:lnTo>
                <a:lnTo>
                  <a:pt x="18157" y="347"/>
                </a:lnTo>
                <a:lnTo>
                  <a:pt x="18107" y="322"/>
                </a:lnTo>
                <a:lnTo>
                  <a:pt x="18132" y="322"/>
                </a:lnTo>
                <a:lnTo>
                  <a:pt x="18207" y="322"/>
                </a:lnTo>
                <a:lnTo>
                  <a:pt x="18355" y="322"/>
                </a:lnTo>
                <a:lnTo>
                  <a:pt x="18554" y="322"/>
                </a:lnTo>
                <a:lnTo>
                  <a:pt x="18777" y="322"/>
                </a:lnTo>
                <a:lnTo>
                  <a:pt x="18926" y="322"/>
                </a:lnTo>
                <a:lnTo>
                  <a:pt x="19025" y="322"/>
                </a:lnTo>
                <a:lnTo>
                  <a:pt x="19050" y="322"/>
                </a:lnTo>
                <a:lnTo>
                  <a:pt x="19000" y="322"/>
                </a:lnTo>
                <a:lnTo>
                  <a:pt x="18926" y="273"/>
                </a:lnTo>
                <a:lnTo>
                  <a:pt x="18777" y="273"/>
                </a:lnTo>
                <a:lnTo>
                  <a:pt x="18554" y="273"/>
                </a:lnTo>
                <a:lnTo>
                  <a:pt x="18306" y="273"/>
                </a:lnTo>
                <a:lnTo>
                  <a:pt x="18157" y="273"/>
                </a:lnTo>
                <a:lnTo>
                  <a:pt x="18058" y="273"/>
                </a:lnTo>
                <a:lnTo>
                  <a:pt x="18033" y="273"/>
                </a:lnTo>
                <a:lnTo>
                  <a:pt x="18058" y="273"/>
                </a:lnTo>
                <a:lnTo>
                  <a:pt x="18207" y="273"/>
                </a:lnTo>
                <a:lnTo>
                  <a:pt x="18430" y="273"/>
                </a:lnTo>
                <a:lnTo>
                  <a:pt x="18802" y="273"/>
                </a:lnTo>
                <a:lnTo>
                  <a:pt x="19224" y="223"/>
                </a:lnTo>
                <a:lnTo>
                  <a:pt x="19571" y="223"/>
                </a:lnTo>
                <a:lnTo>
                  <a:pt x="19794" y="223"/>
                </a:lnTo>
                <a:lnTo>
                  <a:pt x="19844" y="198"/>
                </a:lnTo>
                <a:lnTo>
                  <a:pt x="19720" y="198"/>
                </a:lnTo>
                <a:lnTo>
                  <a:pt x="19546" y="198"/>
                </a:lnTo>
                <a:lnTo>
                  <a:pt x="19348" y="198"/>
                </a:lnTo>
                <a:lnTo>
                  <a:pt x="19174" y="198"/>
                </a:lnTo>
                <a:lnTo>
                  <a:pt x="19050" y="198"/>
                </a:lnTo>
                <a:lnTo>
                  <a:pt x="19050" y="198"/>
                </a:lnTo>
                <a:lnTo>
                  <a:pt x="19050" y="174"/>
                </a:lnTo>
                <a:lnTo>
                  <a:pt x="19050" y="149"/>
                </a:lnTo>
                <a:lnTo>
                  <a:pt x="19149" y="149"/>
                </a:lnTo>
                <a:lnTo>
                  <a:pt x="19397" y="149"/>
                </a:lnTo>
                <a:lnTo>
                  <a:pt x="19720" y="149"/>
                </a:lnTo>
                <a:lnTo>
                  <a:pt x="19968" y="149"/>
                </a:lnTo>
                <a:lnTo>
                  <a:pt x="20067" y="149"/>
                </a:lnTo>
                <a:lnTo>
                  <a:pt x="20092" y="149"/>
                </a:lnTo>
                <a:lnTo>
                  <a:pt x="20042" y="149"/>
                </a:lnTo>
                <a:lnTo>
                  <a:pt x="19621" y="149"/>
                </a:lnTo>
                <a:lnTo>
                  <a:pt x="19075" y="149"/>
                </a:lnTo>
                <a:lnTo>
                  <a:pt x="18479" y="149"/>
                </a:lnTo>
                <a:lnTo>
                  <a:pt x="18008" y="149"/>
                </a:lnTo>
                <a:lnTo>
                  <a:pt x="17785" y="149"/>
                </a:lnTo>
                <a:lnTo>
                  <a:pt x="17785" y="149"/>
                </a:lnTo>
                <a:lnTo>
                  <a:pt x="18008" y="149"/>
                </a:lnTo>
                <a:lnTo>
                  <a:pt x="18331" y="149"/>
                </a:lnTo>
                <a:lnTo>
                  <a:pt x="18703" y="149"/>
                </a:lnTo>
                <a:lnTo>
                  <a:pt x="19124" y="149"/>
                </a:lnTo>
                <a:lnTo>
                  <a:pt x="19546" y="149"/>
                </a:lnTo>
                <a:lnTo>
                  <a:pt x="20067" y="149"/>
                </a:lnTo>
                <a:lnTo>
                  <a:pt x="20340" y="149"/>
                </a:lnTo>
                <a:lnTo>
                  <a:pt x="20439" y="149"/>
                </a:lnTo>
                <a:lnTo>
                  <a:pt x="20340" y="149"/>
                </a:lnTo>
                <a:lnTo>
                  <a:pt x="20216" y="149"/>
                </a:lnTo>
                <a:lnTo>
                  <a:pt x="20067" y="149"/>
                </a:lnTo>
                <a:lnTo>
                  <a:pt x="19918" y="149"/>
                </a:lnTo>
                <a:lnTo>
                  <a:pt x="19893" y="149"/>
                </a:lnTo>
                <a:lnTo>
                  <a:pt x="19893" y="124"/>
                </a:lnTo>
                <a:lnTo>
                  <a:pt x="19893" y="99"/>
                </a:lnTo>
                <a:lnTo>
                  <a:pt x="20017" y="74"/>
                </a:lnTo>
                <a:lnTo>
                  <a:pt x="20166" y="50"/>
                </a:lnTo>
                <a:lnTo>
                  <a:pt x="20241" y="50"/>
                </a:lnTo>
                <a:lnTo>
                  <a:pt x="20191" y="50"/>
                </a:lnTo>
                <a:lnTo>
                  <a:pt x="19893" y="50"/>
                </a:lnTo>
                <a:lnTo>
                  <a:pt x="19521" y="50"/>
                </a:lnTo>
                <a:lnTo>
                  <a:pt x="19149" y="50"/>
                </a:lnTo>
                <a:lnTo>
                  <a:pt x="18951" y="50"/>
                </a:lnTo>
                <a:lnTo>
                  <a:pt x="18926" y="50"/>
                </a:lnTo>
                <a:lnTo>
                  <a:pt x="18926" y="50"/>
                </a:lnTo>
                <a:lnTo>
                  <a:pt x="18976" y="50"/>
                </a:lnTo>
                <a:lnTo>
                  <a:pt x="19050" y="50"/>
                </a:lnTo>
                <a:lnTo>
                  <a:pt x="19199" y="50"/>
                </a:lnTo>
                <a:lnTo>
                  <a:pt x="19422" y="50"/>
                </a:lnTo>
                <a:lnTo>
                  <a:pt x="19621" y="50"/>
                </a:lnTo>
                <a:lnTo>
                  <a:pt x="19819" y="50"/>
                </a:lnTo>
                <a:lnTo>
                  <a:pt x="19819" y="50"/>
                </a:lnTo>
                <a:lnTo>
                  <a:pt x="19720" y="50"/>
                </a:lnTo>
                <a:lnTo>
                  <a:pt x="19422" y="50"/>
                </a:lnTo>
                <a:lnTo>
                  <a:pt x="19000" y="50"/>
                </a:lnTo>
                <a:lnTo>
                  <a:pt x="18628" y="50"/>
                </a:lnTo>
                <a:lnTo>
                  <a:pt x="18405" y="50"/>
                </a:lnTo>
                <a:lnTo>
                  <a:pt x="18355" y="50"/>
                </a:lnTo>
                <a:lnTo>
                  <a:pt x="18355" y="50"/>
                </a:lnTo>
                <a:lnTo>
                  <a:pt x="18479" y="50"/>
                </a:lnTo>
                <a:lnTo>
                  <a:pt x="18678" y="50"/>
                </a:lnTo>
                <a:lnTo>
                  <a:pt x="18901" y="50"/>
                </a:lnTo>
                <a:lnTo>
                  <a:pt x="19149" y="50"/>
                </a:lnTo>
                <a:lnTo>
                  <a:pt x="19348" y="50"/>
                </a:lnTo>
                <a:lnTo>
                  <a:pt x="19447" y="50"/>
                </a:lnTo>
                <a:lnTo>
                  <a:pt x="19496" y="50"/>
                </a:lnTo>
                <a:lnTo>
                  <a:pt x="19472" y="50"/>
                </a:lnTo>
                <a:lnTo>
                  <a:pt x="19372" y="50"/>
                </a:lnTo>
                <a:lnTo>
                  <a:pt x="19224" y="50"/>
                </a:lnTo>
                <a:lnTo>
                  <a:pt x="19075" y="50"/>
                </a:lnTo>
                <a:lnTo>
                  <a:pt x="18951" y="50"/>
                </a:lnTo>
                <a:lnTo>
                  <a:pt x="18802" y="50"/>
                </a:lnTo>
                <a:lnTo>
                  <a:pt x="18777" y="50"/>
                </a:lnTo>
                <a:lnTo>
                  <a:pt x="18752" y="50"/>
                </a:lnTo>
                <a:lnTo>
                  <a:pt x="18703" y="50"/>
                </a:lnTo>
                <a:lnTo>
                  <a:pt x="18703" y="74"/>
                </a:lnTo>
                <a:lnTo>
                  <a:pt x="18703" y="99"/>
                </a:lnTo>
                <a:lnTo>
                  <a:pt x="18703" y="124"/>
                </a:lnTo>
                <a:lnTo>
                  <a:pt x="18703" y="149"/>
                </a:lnTo>
                <a:lnTo>
                  <a:pt x="18703" y="149"/>
                </a:lnTo>
                <a:lnTo>
                  <a:pt x="18777" y="149"/>
                </a:lnTo>
                <a:lnTo>
                  <a:pt x="18852" y="149"/>
                </a:lnTo>
                <a:lnTo>
                  <a:pt x="18926" y="149"/>
                </a:lnTo>
                <a:lnTo>
                  <a:pt x="19000" y="149"/>
                </a:lnTo>
                <a:lnTo>
                  <a:pt x="19075" y="149"/>
                </a:lnTo>
                <a:lnTo>
                  <a:pt x="19149" y="149"/>
                </a:lnTo>
                <a:lnTo>
                  <a:pt x="19199" y="149"/>
                </a:lnTo>
                <a:lnTo>
                  <a:pt x="19224" y="149"/>
                </a:lnTo>
                <a:lnTo>
                  <a:pt x="19224" y="174"/>
                </a:lnTo>
                <a:lnTo>
                  <a:pt x="19224" y="198"/>
                </a:lnTo>
                <a:lnTo>
                  <a:pt x="19174" y="223"/>
                </a:lnTo>
                <a:lnTo>
                  <a:pt x="19124" y="223"/>
                </a:lnTo>
                <a:lnTo>
                  <a:pt x="19050" y="248"/>
                </a:lnTo>
                <a:lnTo>
                  <a:pt x="19025" y="248"/>
                </a:lnTo>
                <a:lnTo>
                  <a:pt x="18976" y="248"/>
                </a:lnTo>
                <a:lnTo>
                  <a:pt x="18976" y="248"/>
                </a:lnTo>
                <a:lnTo>
                  <a:pt x="18951" y="273"/>
                </a:lnTo>
                <a:lnTo>
                  <a:pt x="18951" y="273"/>
                </a:lnTo>
                <a:lnTo>
                  <a:pt x="19025" y="273"/>
                </a:lnTo>
                <a:lnTo>
                  <a:pt x="19075" y="273"/>
                </a:lnTo>
                <a:lnTo>
                  <a:pt x="19124" y="273"/>
                </a:lnTo>
                <a:lnTo>
                  <a:pt x="19124" y="273"/>
                </a:lnTo>
                <a:lnTo>
                  <a:pt x="19149" y="273"/>
                </a:lnTo>
                <a:lnTo>
                  <a:pt x="19199" y="273"/>
                </a:lnTo>
                <a:lnTo>
                  <a:pt x="19224" y="273"/>
                </a:lnTo>
                <a:lnTo>
                  <a:pt x="19248" y="248"/>
                </a:lnTo>
                <a:lnTo>
                  <a:pt x="19248" y="248"/>
                </a:lnTo>
                <a:lnTo>
                  <a:pt x="19273" y="248"/>
                </a:lnTo>
                <a:lnTo>
                  <a:pt x="19348" y="248"/>
                </a:lnTo>
                <a:lnTo>
                  <a:pt x="19422" y="248"/>
                </a:lnTo>
                <a:lnTo>
                  <a:pt x="19496" y="248"/>
                </a:lnTo>
                <a:lnTo>
                  <a:pt x="19571" y="248"/>
                </a:lnTo>
                <a:lnTo>
                  <a:pt x="19596" y="248"/>
                </a:lnTo>
                <a:lnTo>
                  <a:pt x="19621" y="248"/>
                </a:lnTo>
                <a:lnTo>
                  <a:pt x="19645" y="248"/>
                </a:lnTo>
                <a:lnTo>
                  <a:pt x="19670" y="248"/>
                </a:lnTo>
                <a:lnTo>
                  <a:pt x="19745" y="248"/>
                </a:lnTo>
                <a:lnTo>
                  <a:pt x="19819" y="248"/>
                </a:lnTo>
                <a:lnTo>
                  <a:pt x="19893" y="248"/>
                </a:lnTo>
                <a:lnTo>
                  <a:pt x="19968" y="248"/>
                </a:lnTo>
                <a:lnTo>
                  <a:pt x="20017" y="248"/>
                </a:lnTo>
                <a:lnTo>
                  <a:pt x="20067" y="248"/>
                </a:lnTo>
                <a:lnTo>
                  <a:pt x="20067" y="248"/>
                </a:lnTo>
                <a:lnTo>
                  <a:pt x="20117" y="248"/>
                </a:lnTo>
                <a:lnTo>
                  <a:pt x="20166" y="248"/>
                </a:lnTo>
                <a:lnTo>
                  <a:pt x="20241" y="248"/>
                </a:lnTo>
                <a:lnTo>
                  <a:pt x="20290" y="248"/>
                </a:lnTo>
                <a:lnTo>
                  <a:pt x="20340" y="248"/>
                </a:lnTo>
                <a:lnTo>
                  <a:pt x="20414" y="248"/>
                </a:lnTo>
                <a:lnTo>
                  <a:pt x="20489" y="248"/>
                </a:lnTo>
                <a:lnTo>
                  <a:pt x="20563" y="248"/>
                </a:lnTo>
                <a:lnTo>
                  <a:pt x="20588" y="248"/>
                </a:lnTo>
                <a:lnTo>
                  <a:pt x="20662" y="248"/>
                </a:lnTo>
                <a:lnTo>
                  <a:pt x="20687" y="248"/>
                </a:lnTo>
                <a:lnTo>
                  <a:pt x="20737" y="248"/>
                </a:lnTo>
                <a:lnTo>
                  <a:pt x="20811" y="248"/>
                </a:lnTo>
                <a:lnTo>
                  <a:pt x="20910" y="248"/>
                </a:lnTo>
                <a:lnTo>
                  <a:pt x="20985" y="248"/>
                </a:lnTo>
                <a:lnTo>
                  <a:pt x="21084" y="248"/>
                </a:lnTo>
                <a:lnTo>
                  <a:pt x="21208" y="248"/>
                </a:lnTo>
                <a:lnTo>
                  <a:pt x="21332" y="248"/>
                </a:lnTo>
                <a:lnTo>
                  <a:pt x="21406" y="248"/>
                </a:lnTo>
                <a:lnTo>
                  <a:pt x="21481" y="248"/>
                </a:lnTo>
                <a:lnTo>
                  <a:pt x="21506" y="223"/>
                </a:lnTo>
                <a:lnTo>
                  <a:pt x="21530" y="223"/>
                </a:lnTo>
                <a:lnTo>
                  <a:pt x="21555" y="223"/>
                </a:lnTo>
                <a:lnTo>
                  <a:pt x="21580" y="223"/>
                </a:lnTo>
                <a:lnTo>
                  <a:pt x="21630" y="198"/>
                </a:lnTo>
                <a:lnTo>
                  <a:pt x="21679" y="198"/>
                </a:lnTo>
                <a:lnTo>
                  <a:pt x="21729" y="198"/>
                </a:lnTo>
                <a:lnTo>
                  <a:pt x="21754" y="198"/>
                </a:lnTo>
                <a:lnTo>
                  <a:pt x="21779" y="198"/>
                </a:lnTo>
                <a:lnTo>
                  <a:pt x="21803" y="174"/>
                </a:lnTo>
                <a:lnTo>
                  <a:pt x="21853" y="174"/>
                </a:lnTo>
                <a:lnTo>
                  <a:pt x="21903" y="174"/>
                </a:lnTo>
                <a:lnTo>
                  <a:pt x="21952" y="174"/>
                </a:lnTo>
                <a:lnTo>
                  <a:pt x="22002" y="174"/>
                </a:lnTo>
                <a:lnTo>
                  <a:pt x="22076" y="174"/>
                </a:lnTo>
                <a:lnTo>
                  <a:pt x="22151" y="174"/>
                </a:lnTo>
                <a:lnTo>
                  <a:pt x="22225" y="174"/>
                </a:lnTo>
                <a:lnTo>
                  <a:pt x="22299" y="174"/>
                </a:lnTo>
                <a:lnTo>
                  <a:pt x="22399" y="174"/>
                </a:lnTo>
                <a:lnTo>
                  <a:pt x="22448" y="174"/>
                </a:lnTo>
                <a:lnTo>
                  <a:pt x="22498" y="174"/>
                </a:lnTo>
                <a:lnTo>
                  <a:pt x="22498" y="149"/>
                </a:lnTo>
                <a:lnTo>
                  <a:pt x="22399" y="149"/>
                </a:lnTo>
                <a:lnTo>
                  <a:pt x="22151" y="149"/>
                </a:lnTo>
                <a:lnTo>
                  <a:pt x="21754" y="149"/>
                </a:lnTo>
                <a:lnTo>
                  <a:pt x="21357" y="149"/>
                </a:lnTo>
                <a:lnTo>
                  <a:pt x="20935" y="149"/>
                </a:lnTo>
                <a:lnTo>
                  <a:pt x="20513" y="149"/>
                </a:lnTo>
                <a:lnTo>
                  <a:pt x="20191" y="149"/>
                </a:lnTo>
                <a:lnTo>
                  <a:pt x="19943" y="149"/>
                </a:lnTo>
                <a:lnTo>
                  <a:pt x="19794" y="174"/>
                </a:lnTo>
                <a:lnTo>
                  <a:pt x="19720" y="223"/>
                </a:lnTo>
                <a:lnTo>
                  <a:pt x="19695" y="223"/>
                </a:lnTo>
                <a:lnTo>
                  <a:pt x="19720" y="223"/>
                </a:lnTo>
                <a:lnTo>
                  <a:pt x="19893" y="223"/>
                </a:lnTo>
                <a:lnTo>
                  <a:pt x="20241" y="223"/>
                </a:lnTo>
                <a:lnTo>
                  <a:pt x="20638" y="223"/>
                </a:lnTo>
                <a:lnTo>
                  <a:pt x="21158" y="223"/>
                </a:lnTo>
                <a:lnTo>
                  <a:pt x="21481" y="223"/>
                </a:lnTo>
                <a:lnTo>
                  <a:pt x="21679" y="223"/>
                </a:lnTo>
                <a:lnTo>
                  <a:pt x="21754" y="223"/>
                </a:lnTo>
                <a:lnTo>
                  <a:pt x="21729" y="223"/>
                </a:lnTo>
                <a:lnTo>
                  <a:pt x="21605" y="248"/>
                </a:lnTo>
                <a:lnTo>
                  <a:pt x="21382" y="298"/>
                </a:lnTo>
                <a:lnTo>
                  <a:pt x="21158" y="298"/>
                </a:lnTo>
                <a:lnTo>
                  <a:pt x="20861" y="397"/>
                </a:lnTo>
                <a:lnTo>
                  <a:pt x="20613" y="422"/>
                </a:lnTo>
                <a:lnTo>
                  <a:pt x="20389" y="422"/>
                </a:lnTo>
                <a:lnTo>
                  <a:pt x="20141" y="422"/>
                </a:lnTo>
                <a:lnTo>
                  <a:pt x="19918" y="422"/>
                </a:lnTo>
                <a:lnTo>
                  <a:pt x="19769" y="422"/>
                </a:lnTo>
                <a:lnTo>
                  <a:pt x="19670" y="422"/>
                </a:lnTo>
                <a:lnTo>
                  <a:pt x="19596" y="422"/>
                </a:lnTo>
                <a:lnTo>
                  <a:pt x="19571" y="422"/>
                </a:lnTo>
                <a:lnTo>
                  <a:pt x="19571" y="397"/>
                </a:lnTo>
                <a:lnTo>
                  <a:pt x="19596" y="372"/>
                </a:lnTo>
                <a:lnTo>
                  <a:pt x="19720" y="347"/>
                </a:lnTo>
                <a:lnTo>
                  <a:pt x="19869" y="298"/>
                </a:lnTo>
                <a:lnTo>
                  <a:pt x="20141" y="273"/>
                </a:lnTo>
                <a:lnTo>
                  <a:pt x="20489" y="273"/>
                </a:lnTo>
                <a:lnTo>
                  <a:pt x="20886" y="273"/>
                </a:lnTo>
                <a:lnTo>
                  <a:pt x="21307" y="273"/>
                </a:lnTo>
                <a:lnTo>
                  <a:pt x="21679" y="273"/>
                </a:lnTo>
                <a:lnTo>
                  <a:pt x="21927" y="273"/>
                </a:lnTo>
                <a:lnTo>
                  <a:pt x="22076" y="273"/>
                </a:lnTo>
                <a:lnTo>
                  <a:pt x="22126" y="248"/>
                </a:lnTo>
                <a:lnTo>
                  <a:pt x="22101" y="248"/>
                </a:lnTo>
                <a:lnTo>
                  <a:pt x="21828" y="248"/>
                </a:lnTo>
                <a:lnTo>
                  <a:pt x="21431" y="248"/>
                </a:lnTo>
                <a:lnTo>
                  <a:pt x="21010" y="248"/>
                </a:lnTo>
                <a:lnTo>
                  <a:pt x="20538" y="248"/>
                </a:lnTo>
                <a:lnTo>
                  <a:pt x="20265" y="248"/>
                </a:lnTo>
                <a:lnTo>
                  <a:pt x="20191" y="248"/>
                </a:lnTo>
                <a:lnTo>
                  <a:pt x="20166" y="248"/>
                </a:lnTo>
                <a:lnTo>
                  <a:pt x="20166" y="248"/>
                </a:lnTo>
                <a:lnTo>
                  <a:pt x="20191" y="248"/>
                </a:lnTo>
                <a:lnTo>
                  <a:pt x="20290" y="248"/>
                </a:lnTo>
                <a:lnTo>
                  <a:pt x="20439" y="248"/>
                </a:lnTo>
                <a:lnTo>
                  <a:pt x="20712" y="248"/>
                </a:lnTo>
                <a:lnTo>
                  <a:pt x="21059" y="248"/>
                </a:lnTo>
                <a:lnTo>
                  <a:pt x="21506" y="248"/>
                </a:lnTo>
                <a:lnTo>
                  <a:pt x="21927" y="248"/>
                </a:lnTo>
                <a:lnTo>
                  <a:pt x="22225" y="248"/>
                </a:lnTo>
                <a:lnTo>
                  <a:pt x="22324" y="248"/>
                </a:lnTo>
                <a:lnTo>
                  <a:pt x="22299" y="248"/>
                </a:lnTo>
                <a:lnTo>
                  <a:pt x="22175" y="273"/>
                </a:lnTo>
                <a:lnTo>
                  <a:pt x="21878" y="273"/>
                </a:lnTo>
                <a:lnTo>
                  <a:pt x="21605" y="273"/>
                </a:lnTo>
                <a:lnTo>
                  <a:pt x="21357" y="273"/>
                </a:lnTo>
                <a:lnTo>
                  <a:pt x="21208" y="273"/>
                </a:lnTo>
                <a:lnTo>
                  <a:pt x="21109" y="298"/>
                </a:lnTo>
                <a:lnTo>
                  <a:pt x="21059" y="298"/>
                </a:lnTo>
                <a:lnTo>
                  <a:pt x="21059" y="298"/>
                </a:lnTo>
                <a:lnTo>
                  <a:pt x="21084" y="298"/>
                </a:lnTo>
                <a:lnTo>
                  <a:pt x="21134" y="298"/>
                </a:lnTo>
                <a:lnTo>
                  <a:pt x="21258" y="298"/>
                </a:lnTo>
                <a:lnTo>
                  <a:pt x="21506" y="248"/>
                </a:lnTo>
                <a:lnTo>
                  <a:pt x="21828" y="248"/>
                </a:lnTo>
                <a:lnTo>
                  <a:pt x="22175" y="198"/>
                </a:lnTo>
                <a:lnTo>
                  <a:pt x="22547" y="198"/>
                </a:lnTo>
                <a:lnTo>
                  <a:pt x="22796" y="149"/>
                </a:lnTo>
                <a:lnTo>
                  <a:pt x="22870" y="124"/>
                </a:lnTo>
                <a:lnTo>
                  <a:pt x="22895" y="99"/>
                </a:lnTo>
                <a:lnTo>
                  <a:pt x="22895" y="99"/>
                </a:lnTo>
                <a:lnTo>
                  <a:pt x="22895" y="74"/>
                </a:lnTo>
                <a:lnTo>
                  <a:pt x="22895" y="50"/>
                </a:lnTo>
                <a:lnTo>
                  <a:pt x="22796" y="25"/>
                </a:lnTo>
                <a:lnTo>
                  <a:pt x="22721" y="25"/>
                </a:lnTo>
                <a:lnTo>
                  <a:pt x="22671" y="25"/>
                </a:lnTo>
                <a:lnTo>
                  <a:pt x="22597" y="25"/>
                </a:lnTo>
                <a:lnTo>
                  <a:pt x="22523" y="25"/>
                </a:lnTo>
                <a:lnTo>
                  <a:pt x="22423" y="25"/>
                </a:lnTo>
                <a:lnTo>
                  <a:pt x="22225" y="25"/>
                </a:lnTo>
                <a:lnTo>
                  <a:pt x="22002" y="25"/>
                </a:lnTo>
                <a:lnTo>
                  <a:pt x="21729" y="25"/>
                </a:lnTo>
                <a:lnTo>
                  <a:pt x="21530" y="25"/>
                </a:lnTo>
                <a:lnTo>
                  <a:pt x="21332" y="25"/>
                </a:lnTo>
                <a:lnTo>
                  <a:pt x="21183" y="25"/>
                </a:lnTo>
                <a:lnTo>
                  <a:pt x="21109" y="25"/>
                </a:lnTo>
                <a:lnTo>
                  <a:pt x="21059" y="25"/>
                </a:lnTo>
                <a:lnTo>
                  <a:pt x="21034" y="25"/>
                </a:lnTo>
                <a:lnTo>
                  <a:pt x="20985" y="25"/>
                </a:lnTo>
                <a:lnTo>
                  <a:pt x="20960" y="25"/>
                </a:lnTo>
                <a:lnTo>
                  <a:pt x="20935" y="25"/>
                </a:lnTo>
                <a:lnTo>
                  <a:pt x="20910" y="25"/>
                </a:lnTo>
                <a:lnTo>
                  <a:pt x="20910" y="25"/>
                </a:lnTo>
                <a:lnTo>
                  <a:pt x="20935" y="25"/>
                </a:lnTo>
                <a:lnTo>
                  <a:pt x="21183" y="25"/>
                </a:lnTo>
                <a:lnTo>
                  <a:pt x="21481" y="25"/>
                </a:lnTo>
                <a:lnTo>
                  <a:pt x="21853" y="25"/>
                </a:lnTo>
                <a:lnTo>
                  <a:pt x="22175" y="25"/>
                </a:lnTo>
                <a:lnTo>
                  <a:pt x="22498" y="25"/>
                </a:lnTo>
                <a:lnTo>
                  <a:pt x="22622" y="25"/>
                </a:lnTo>
                <a:lnTo>
                  <a:pt x="22622" y="25"/>
                </a:lnTo>
                <a:lnTo>
                  <a:pt x="22523" y="25"/>
                </a:lnTo>
                <a:lnTo>
                  <a:pt x="22175" y="25"/>
                </a:lnTo>
                <a:lnTo>
                  <a:pt x="21679" y="25"/>
                </a:lnTo>
                <a:lnTo>
                  <a:pt x="21034" y="25"/>
                </a:lnTo>
                <a:lnTo>
                  <a:pt x="20563" y="25"/>
                </a:lnTo>
                <a:lnTo>
                  <a:pt x="20191" y="25"/>
                </a:lnTo>
                <a:lnTo>
                  <a:pt x="20017" y="25"/>
                </a:lnTo>
                <a:lnTo>
                  <a:pt x="19968" y="25"/>
                </a:lnTo>
                <a:lnTo>
                  <a:pt x="19968" y="25"/>
                </a:lnTo>
                <a:lnTo>
                  <a:pt x="19993" y="25"/>
                </a:lnTo>
                <a:lnTo>
                  <a:pt x="20166" y="74"/>
                </a:lnTo>
                <a:lnTo>
                  <a:pt x="20489" y="74"/>
                </a:lnTo>
                <a:lnTo>
                  <a:pt x="20985" y="74"/>
                </a:lnTo>
                <a:lnTo>
                  <a:pt x="21506" y="74"/>
                </a:lnTo>
                <a:lnTo>
                  <a:pt x="21977" y="74"/>
                </a:lnTo>
                <a:lnTo>
                  <a:pt x="22200" y="74"/>
                </a:lnTo>
                <a:lnTo>
                  <a:pt x="22250" y="74"/>
                </a:lnTo>
                <a:lnTo>
                  <a:pt x="22225" y="74"/>
                </a:lnTo>
                <a:lnTo>
                  <a:pt x="22151" y="74"/>
                </a:lnTo>
                <a:lnTo>
                  <a:pt x="22051" y="74"/>
                </a:lnTo>
                <a:lnTo>
                  <a:pt x="21828" y="74"/>
                </a:lnTo>
                <a:lnTo>
                  <a:pt x="21456" y="74"/>
                </a:lnTo>
                <a:lnTo>
                  <a:pt x="21134" y="74"/>
                </a:lnTo>
                <a:lnTo>
                  <a:pt x="20811" y="74"/>
                </a:lnTo>
                <a:lnTo>
                  <a:pt x="20613" y="74"/>
                </a:lnTo>
                <a:lnTo>
                  <a:pt x="20538" y="74"/>
                </a:lnTo>
                <a:lnTo>
                  <a:pt x="20638" y="74"/>
                </a:lnTo>
                <a:lnTo>
                  <a:pt x="20762" y="74"/>
                </a:lnTo>
                <a:lnTo>
                  <a:pt x="21010" y="0"/>
                </a:lnTo>
                <a:lnTo>
                  <a:pt x="21357" y="0"/>
                </a:lnTo>
                <a:lnTo>
                  <a:pt x="21803" y="0"/>
                </a:lnTo>
                <a:lnTo>
                  <a:pt x="22324" y="0"/>
                </a:lnTo>
                <a:lnTo>
                  <a:pt x="22796" y="0"/>
                </a:lnTo>
                <a:lnTo>
                  <a:pt x="23068" y="0"/>
                </a:lnTo>
                <a:lnTo>
                  <a:pt x="23118" y="0"/>
                </a:lnTo>
                <a:lnTo>
                  <a:pt x="23093" y="0"/>
                </a:lnTo>
                <a:lnTo>
                  <a:pt x="22820" y="0"/>
                </a:lnTo>
                <a:lnTo>
                  <a:pt x="22498" y="0"/>
                </a:lnTo>
                <a:lnTo>
                  <a:pt x="22275" y="0"/>
                </a:lnTo>
                <a:lnTo>
                  <a:pt x="22126" y="0"/>
                </a:lnTo>
                <a:lnTo>
                  <a:pt x="22151" y="0"/>
                </a:lnTo>
                <a:lnTo>
                  <a:pt x="22324" y="0"/>
                </a:lnTo>
                <a:lnTo>
                  <a:pt x="22523" y="0"/>
                </a:lnTo>
                <a:lnTo>
                  <a:pt x="22721" y="0"/>
                </a:lnTo>
                <a:lnTo>
                  <a:pt x="22796" y="0"/>
                </a:lnTo>
                <a:lnTo>
                  <a:pt x="22796" y="0"/>
                </a:lnTo>
                <a:lnTo>
                  <a:pt x="22771" y="0"/>
                </a:lnTo>
                <a:lnTo>
                  <a:pt x="22597" y="0"/>
                </a:lnTo>
                <a:lnTo>
                  <a:pt x="22324" y="0"/>
                </a:lnTo>
                <a:lnTo>
                  <a:pt x="22101" y="0"/>
                </a:lnTo>
                <a:lnTo>
                  <a:pt x="21952" y="0"/>
                </a:lnTo>
                <a:lnTo>
                  <a:pt x="21927" y="0"/>
                </a:lnTo>
                <a:lnTo>
                  <a:pt x="21927" y="0"/>
                </a:lnTo>
                <a:lnTo>
                  <a:pt x="22051" y="0"/>
                </a:lnTo>
                <a:lnTo>
                  <a:pt x="22151" y="0"/>
                </a:lnTo>
                <a:lnTo>
                  <a:pt x="22299" y="0"/>
                </a:lnTo>
                <a:lnTo>
                  <a:pt x="22498" y="0"/>
                </a:lnTo>
                <a:lnTo>
                  <a:pt x="22572" y="0"/>
                </a:lnTo>
                <a:lnTo>
                  <a:pt x="22572" y="0"/>
                </a:lnTo>
                <a:lnTo>
                  <a:pt x="22572" y="25"/>
                </a:lnTo>
                <a:lnTo>
                  <a:pt x="22547" y="74"/>
                </a:lnTo>
                <a:lnTo>
                  <a:pt x="22423" y="124"/>
                </a:lnTo>
                <a:lnTo>
                  <a:pt x="22324" y="149"/>
                </a:lnTo>
                <a:lnTo>
                  <a:pt x="22175" y="174"/>
                </a:lnTo>
                <a:lnTo>
                  <a:pt x="22002" y="223"/>
                </a:lnTo>
                <a:lnTo>
                  <a:pt x="21903" y="248"/>
                </a:lnTo>
                <a:lnTo>
                  <a:pt x="21853" y="298"/>
                </a:lnTo>
                <a:lnTo>
                  <a:pt x="21828" y="298"/>
                </a:lnTo>
                <a:lnTo>
                  <a:pt x="21828" y="298"/>
                </a:lnTo>
                <a:lnTo>
                  <a:pt x="21803" y="298"/>
                </a:lnTo>
                <a:lnTo>
                  <a:pt x="21779" y="298"/>
                </a:lnTo>
                <a:lnTo>
                  <a:pt x="21779" y="322"/>
                </a:lnTo>
                <a:lnTo>
                  <a:pt x="21779" y="347"/>
                </a:lnTo>
                <a:lnTo>
                  <a:pt x="21803" y="372"/>
                </a:lnTo>
                <a:lnTo>
                  <a:pt x="21853" y="397"/>
                </a:lnTo>
                <a:lnTo>
                  <a:pt x="21878" y="397"/>
                </a:lnTo>
                <a:lnTo>
                  <a:pt x="21903" y="397"/>
                </a:lnTo>
                <a:lnTo>
                  <a:pt x="21927" y="397"/>
                </a:lnTo>
                <a:lnTo>
                  <a:pt x="21952" y="397"/>
                </a:lnTo>
                <a:lnTo>
                  <a:pt x="22002" y="397"/>
                </a:lnTo>
                <a:lnTo>
                  <a:pt x="22051" y="397"/>
                </a:lnTo>
                <a:lnTo>
                  <a:pt x="22101" y="397"/>
                </a:lnTo>
                <a:lnTo>
                  <a:pt x="22126" y="347"/>
                </a:lnTo>
                <a:lnTo>
                  <a:pt x="22175" y="322"/>
                </a:lnTo>
                <a:lnTo>
                  <a:pt x="22175" y="298"/>
                </a:lnTo>
                <a:lnTo>
                  <a:pt x="22175" y="298"/>
                </a:lnTo>
                <a:lnTo>
                  <a:pt x="22175" y="273"/>
                </a:lnTo>
                <a:lnTo>
                  <a:pt x="22175" y="248"/>
                </a:lnTo>
                <a:lnTo>
                  <a:pt x="22175" y="223"/>
                </a:lnTo>
                <a:lnTo>
                  <a:pt x="22175" y="198"/>
                </a:lnTo>
                <a:lnTo>
                  <a:pt x="22200" y="174"/>
                </a:lnTo>
                <a:lnTo>
                  <a:pt x="22200" y="174"/>
                </a:lnTo>
                <a:lnTo>
                  <a:pt x="22200" y="149"/>
                </a:lnTo>
                <a:lnTo>
                  <a:pt x="22200" y="124"/>
                </a:lnTo>
                <a:lnTo>
                  <a:pt x="22200" y="99"/>
                </a:lnTo>
                <a:lnTo>
                  <a:pt x="22200" y="74"/>
                </a:lnTo>
                <a:lnTo>
                  <a:pt x="22200" y="50"/>
                </a:lnTo>
                <a:lnTo>
                  <a:pt x="22200" y="25"/>
                </a:lnTo>
                <a:lnTo>
                  <a:pt x="22200" y="0"/>
                </a:lnTo>
                <a:lnTo>
                  <a:pt x="22200" y="0"/>
                </a:lnTo>
                <a:lnTo>
                  <a:pt x="22200" y="0"/>
                </a:lnTo>
                <a:lnTo>
                  <a:pt x="22200" y="50"/>
                </a:lnTo>
                <a:lnTo>
                  <a:pt x="22200" y="99"/>
                </a:lnTo>
                <a:lnTo>
                  <a:pt x="22200" y="149"/>
                </a:lnTo>
                <a:lnTo>
                  <a:pt x="22200" y="174"/>
                </a:lnTo>
                <a:lnTo>
                  <a:pt x="22200" y="174"/>
                </a:lnTo>
                <a:lnTo>
                  <a:pt x="22200" y="198"/>
                </a:lnTo>
                <a:lnTo>
                  <a:pt x="22200" y="223"/>
                </a:lnTo>
                <a:lnTo>
                  <a:pt x="22200" y="248"/>
                </a:lnTo>
                <a:lnTo>
                  <a:pt x="22200" y="273"/>
                </a:lnTo>
                <a:lnTo>
                  <a:pt x="22200" y="298"/>
                </a:lnTo>
                <a:lnTo>
                  <a:pt x="22200" y="322"/>
                </a:lnTo>
                <a:lnTo>
                  <a:pt x="22200" y="322"/>
                </a:lnTo>
                <a:lnTo>
                  <a:pt x="22225" y="248"/>
                </a:lnTo>
                <a:lnTo>
                  <a:pt x="22275" y="198"/>
                </a:lnTo>
                <a:lnTo>
                  <a:pt x="22299" y="149"/>
                </a:lnTo>
                <a:lnTo>
                  <a:pt x="22324" y="99"/>
                </a:lnTo>
                <a:lnTo>
                  <a:pt x="22349" y="50"/>
                </a:lnTo>
                <a:lnTo>
                  <a:pt x="22349" y="25"/>
                </a:lnTo>
                <a:lnTo>
                  <a:pt x="22349" y="0"/>
                </a:lnTo>
                <a:lnTo>
                  <a:pt x="22349" y="0"/>
                </a:lnTo>
                <a:lnTo>
                  <a:pt x="22349" y="50"/>
                </a:lnTo>
                <a:lnTo>
                  <a:pt x="22324" y="99"/>
                </a:lnTo>
                <a:lnTo>
                  <a:pt x="22324" y="149"/>
                </a:lnTo>
                <a:lnTo>
                  <a:pt x="22324" y="198"/>
                </a:lnTo>
                <a:lnTo>
                  <a:pt x="22324" y="273"/>
                </a:lnTo>
                <a:lnTo>
                  <a:pt x="22324" y="298"/>
                </a:lnTo>
                <a:lnTo>
                  <a:pt x="22324" y="347"/>
                </a:lnTo>
                <a:lnTo>
                  <a:pt x="22324" y="397"/>
                </a:lnTo>
                <a:lnTo>
                  <a:pt x="22324" y="422"/>
                </a:lnTo>
                <a:lnTo>
                  <a:pt x="22324" y="422"/>
                </a:lnTo>
                <a:lnTo>
                  <a:pt x="22324" y="397"/>
                </a:lnTo>
                <a:lnTo>
                  <a:pt x="22299" y="347"/>
                </a:lnTo>
                <a:lnTo>
                  <a:pt x="22275" y="322"/>
                </a:lnTo>
                <a:lnTo>
                  <a:pt x="22275" y="298"/>
                </a:lnTo>
                <a:lnTo>
                  <a:pt x="22275" y="298"/>
                </a:lnTo>
                <a:lnTo>
                  <a:pt x="22275" y="248"/>
                </a:lnTo>
                <a:lnTo>
                  <a:pt x="22275" y="223"/>
                </a:lnTo>
                <a:lnTo>
                  <a:pt x="22275" y="198"/>
                </a:lnTo>
                <a:lnTo>
                  <a:pt x="22275" y="174"/>
                </a:lnTo>
                <a:lnTo>
                  <a:pt x="22275" y="174"/>
                </a:lnTo>
                <a:lnTo>
                  <a:pt x="22299" y="174"/>
                </a:lnTo>
                <a:lnTo>
                  <a:pt x="22299" y="223"/>
                </a:lnTo>
                <a:lnTo>
                  <a:pt x="22299" y="273"/>
                </a:lnTo>
                <a:lnTo>
                  <a:pt x="22299" y="322"/>
                </a:lnTo>
                <a:lnTo>
                  <a:pt x="22299" y="372"/>
                </a:lnTo>
                <a:lnTo>
                  <a:pt x="22299" y="372"/>
                </a:lnTo>
                <a:lnTo>
                  <a:pt x="22299" y="422"/>
                </a:lnTo>
                <a:lnTo>
                  <a:pt x="22299" y="446"/>
                </a:lnTo>
                <a:lnTo>
                  <a:pt x="22299" y="471"/>
                </a:lnTo>
                <a:lnTo>
                  <a:pt x="22275" y="471"/>
                </a:lnTo>
                <a:lnTo>
                  <a:pt x="22275" y="471"/>
                </a:lnTo>
                <a:lnTo>
                  <a:pt x="22250" y="471"/>
                </a:lnTo>
                <a:lnTo>
                  <a:pt x="22225" y="471"/>
                </a:lnTo>
                <a:lnTo>
                  <a:pt x="22200" y="471"/>
                </a:lnTo>
                <a:lnTo>
                  <a:pt x="22175" y="446"/>
                </a:lnTo>
                <a:lnTo>
                  <a:pt x="22076" y="422"/>
                </a:lnTo>
                <a:lnTo>
                  <a:pt x="21977" y="397"/>
                </a:lnTo>
                <a:lnTo>
                  <a:pt x="21779" y="322"/>
                </a:lnTo>
                <a:lnTo>
                  <a:pt x="21630" y="298"/>
                </a:lnTo>
                <a:lnTo>
                  <a:pt x="21481" y="298"/>
                </a:lnTo>
                <a:lnTo>
                  <a:pt x="21332" y="298"/>
                </a:lnTo>
                <a:lnTo>
                  <a:pt x="21258" y="298"/>
                </a:lnTo>
                <a:lnTo>
                  <a:pt x="21158" y="298"/>
                </a:lnTo>
                <a:lnTo>
                  <a:pt x="21109" y="298"/>
                </a:lnTo>
                <a:lnTo>
                  <a:pt x="21059" y="298"/>
                </a:lnTo>
                <a:lnTo>
                  <a:pt x="20985" y="298"/>
                </a:lnTo>
                <a:lnTo>
                  <a:pt x="20910" y="298"/>
                </a:lnTo>
                <a:lnTo>
                  <a:pt x="20836" y="298"/>
                </a:lnTo>
                <a:lnTo>
                  <a:pt x="20762" y="298"/>
                </a:lnTo>
                <a:lnTo>
                  <a:pt x="20687" y="298"/>
                </a:lnTo>
                <a:lnTo>
                  <a:pt x="20638" y="298"/>
                </a:lnTo>
                <a:lnTo>
                  <a:pt x="20563" y="298"/>
                </a:lnTo>
                <a:lnTo>
                  <a:pt x="20538" y="298"/>
                </a:lnTo>
                <a:lnTo>
                  <a:pt x="20538" y="298"/>
                </a:lnTo>
                <a:lnTo>
                  <a:pt x="20538" y="298"/>
                </a:lnTo>
                <a:lnTo>
                  <a:pt x="20489" y="298"/>
                </a:lnTo>
                <a:lnTo>
                  <a:pt x="20489" y="298"/>
                </a:lnTo>
                <a:lnTo>
                  <a:pt x="20489" y="322"/>
                </a:lnTo>
                <a:lnTo>
                  <a:pt x="20513" y="322"/>
                </a:lnTo>
                <a:lnTo>
                  <a:pt x="20662" y="322"/>
                </a:lnTo>
                <a:lnTo>
                  <a:pt x="20811" y="322"/>
                </a:lnTo>
                <a:lnTo>
                  <a:pt x="20985" y="322"/>
                </a:lnTo>
                <a:lnTo>
                  <a:pt x="21109" y="322"/>
                </a:lnTo>
                <a:lnTo>
                  <a:pt x="21134" y="322"/>
                </a:lnTo>
                <a:lnTo>
                  <a:pt x="21109" y="322"/>
                </a:lnTo>
                <a:lnTo>
                  <a:pt x="20935" y="322"/>
                </a:lnTo>
                <a:lnTo>
                  <a:pt x="20811" y="322"/>
                </a:lnTo>
                <a:lnTo>
                  <a:pt x="20563" y="322"/>
                </a:lnTo>
                <a:lnTo>
                  <a:pt x="20365" y="322"/>
                </a:lnTo>
                <a:lnTo>
                  <a:pt x="20191" y="322"/>
                </a:lnTo>
                <a:lnTo>
                  <a:pt x="20067" y="322"/>
                </a:lnTo>
                <a:lnTo>
                  <a:pt x="20042" y="322"/>
                </a:lnTo>
                <a:lnTo>
                  <a:pt x="20017" y="322"/>
                </a:lnTo>
                <a:lnTo>
                  <a:pt x="19993" y="322"/>
                </a:lnTo>
                <a:lnTo>
                  <a:pt x="19968" y="322"/>
                </a:lnTo>
                <a:lnTo>
                  <a:pt x="19993" y="322"/>
                </a:lnTo>
                <a:lnTo>
                  <a:pt x="20042" y="322"/>
                </a:lnTo>
                <a:lnTo>
                  <a:pt x="20117" y="322"/>
                </a:lnTo>
                <a:lnTo>
                  <a:pt x="20191" y="322"/>
                </a:lnTo>
                <a:lnTo>
                  <a:pt x="20241" y="322"/>
                </a:lnTo>
                <a:lnTo>
                  <a:pt x="20191" y="322"/>
                </a:lnTo>
                <a:lnTo>
                  <a:pt x="20042" y="322"/>
                </a:lnTo>
                <a:lnTo>
                  <a:pt x="19844" y="322"/>
                </a:lnTo>
                <a:lnTo>
                  <a:pt x="19745" y="322"/>
                </a:lnTo>
                <a:lnTo>
                  <a:pt x="19645" y="322"/>
                </a:lnTo>
                <a:lnTo>
                  <a:pt x="19596" y="322"/>
                </a:lnTo>
                <a:lnTo>
                  <a:pt x="19571" y="322"/>
                </a:lnTo>
                <a:lnTo>
                  <a:pt x="19546" y="322"/>
                </a:lnTo>
                <a:lnTo>
                  <a:pt x="19546" y="322"/>
                </a:lnTo>
                <a:lnTo>
                  <a:pt x="19496" y="322"/>
                </a:lnTo>
                <a:lnTo>
                  <a:pt x="19472" y="322"/>
                </a:lnTo>
                <a:lnTo>
                  <a:pt x="19422" y="322"/>
                </a:lnTo>
                <a:lnTo>
                  <a:pt x="19422" y="322"/>
                </a:lnTo>
                <a:lnTo>
                  <a:pt x="19397" y="322"/>
                </a:lnTo>
                <a:lnTo>
                  <a:pt x="19323" y="322"/>
                </a:lnTo>
                <a:lnTo>
                  <a:pt x="19248" y="322"/>
                </a:lnTo>
                <a:lnTo>
                  <a:pt x="19248" y="322"/>
                </a:lnTo>
              </a:path>
            </a:pathLst>
          </a:custGeom>
          <a:noFill/>
          <a:ln cap="rnd" w="349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ТАБЛИЦА ЗАТРАТ НА ОРГАНИЗАЦИЮ ПОДВОЗА УЧАЩИХСЯ В 2006 ГОДУ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77720" y="2209680"/>
          <a:ext cx="8437680" cy="2400480"/>
        </p:xfrm>
        <a:graphic>
          <a:graphicData uri="http://schemas.openxmlformats.org/drawingml/2006/table">
            <a:tbl>
              <a:tblPr/>
              <a:tblGrid>
                <a:gridCol w="789120"/>
                <a:gridCol w="1488960"/>
                <a:gridCol w="1312920"/>
                <a:gridCol w="1839960"/>
                <a:gridCol w="1643040"/>
                <a:gridCol w="136368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ГСМ в лит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ГС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тыс.руб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автобу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ехосмотр, автогражд, предрейсов, аренда, з/ча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тыс.руб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плата 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тыс.руб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тыс.руб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9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0" y="481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0666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-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362320" y="225360"/>
          <a:ext cx="6324480" cy="640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5360"/>
                    <a:ext cx="6324480" cy="64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143000" y="35812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М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05120" y="2362320"/>
            <a:ext cx="4572000" cy="121896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28800" y="2209680"/>
            <a:ext cx="4800600" cy="137160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05120" y="3047760"/>
            <a:ext cx="5486400" cy="53316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2286000"/>
            <a:ext cx="5562360" cy="129528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905120" y="2666880"/>
            <a:ext cx="5333760" cy="91440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05120" y="2437920"/>
            <a:ext cx="5333760" cy="114300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905120" y="2057040"/>
            <a:ext cx="3657600" cy="152388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581280"/>
            <a:ext cx="1143000" cy="76320"/>
          </a:xfrm>
          <a:prstGeom prst="line">
            <a:avLst/>
          </a:prstGeom>
          <a:ln w="223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Ожидаемые результаты реализации программы: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еспечение полноты образовательных услуг, предоставляемых муниципальной сетью, с учетом их реальной доступности, рациональное использование ресурсов сетей общеобразовательных учрежд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странение нарушений преемственности между школой и вузом, получение школьниками образования достаточного уровня и направленности для успешного построения профессиональной карь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овышение качества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ЦЕЛЬ ПРОГРАММЫ: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ние необходимых условий для обеспечения                                                               доступности качественного  общего среднего                                                                                        образования обучающихся сельских ш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ОСНОВНЫ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РЕАЛИЗАЦИИ ПР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7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дание сети базовых  школ, обеспечивающих доступность  качественного общего среднего образования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здание объединений, связывающих общеобразовательную школу с учреждениями начального и среднего профессионального образования,  с учреждениями дополнительного образования для решения проблемы индивидуализации обучения и профессиональной подготовки по нескольким специальнос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 реструктуризацией сети образовательных учреждений понимается  оптимизация системы образования муниципального района, обеспечивающая повышение качества образования за счет более эффективного использования материально-технических, кадровых финансовых и управленческих ресурсов общеобразовательных учреждений на основе их концентрации и коопераци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стоящая Программа является продолжением реорганизации, начатой в 2003 году, 10-ти средних школ путем присоединения к ним 20 малокомплектных начальных школ.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838080" y="1904760"/>
            <a:ext cx="7086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55440" y="544320"/>
            <a:ext cx="1807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39640" bIns="5396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4920"/>
            <a:ext cx="1581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вой ред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20896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формление а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ема-передачи, утверждение его учре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1981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3920" y="2285280"/>
            <a:ext cx="1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докум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208960"/>
            <a:ext cx="22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исьм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ведомление дебитор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банк,  кредиторов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алогов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914400" y="2971800"/>
            <a:ext cx="7086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1800" y="3230640"/>
            <a:ext cx="279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крытие расчетн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733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91200" y="403740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Регистрация новой редакции устава в налоговой инсп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14400" y="4495680"/>
            <a:ext cx="7086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495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3040" y="5180760"/>
            <a:ext cx="138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остав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нового штат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аспис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0560" y="5028480"/>
            <a:ext cx="158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несение запи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 трудовые книж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4937040"/>
            <a:ext cx="30481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едупреждени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аботников о предстоящем               увольнении по сокращению штатов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в случае необходимости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2736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СХЕМА ОСУЩЕСТВЛЕНИЯ РЕОРГАНИЗАЦИИ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ОБРАЗОВАТЕЛЬНОГО УЧРЕЖДЕНИЯ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192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овместное решение учредителей о реорганизации образовательного 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СИСТЕМ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114800" y="14475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1103400"/>
            <a:ext cx="4495680" cy="4065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 flipV="1">
            <a:off x="2895480" y="18288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057400" y="2971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666520" y="38862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4419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324120" y="28954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715000" y="449568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019920" y="39625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866920" y="15238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1295280"/>
            <a:ext cx="909720" cy="56376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Н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914400"/>
            <a:ext cx="909720" cy="56340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990720"/>
            <a:ext cx="909720" cy="56340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О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514600"/>
            <a:ext cx="175248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тские д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038480"/>
            <a:ext cx="909720" cy="56376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ВС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5257800"/>
            <a:ext cx="1752840" cy="56340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КШ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II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в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5029200"/>
            <a:ext cx="909720" cy="56340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4191120"/>
            <a:ext cx="909720" cy="56340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УД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666880"/>
            <a:ext cx="909720" cy="563760"/>
          </a:xfrm>
          <a:prstGeom prst="rect">
            <a:avLst/>
          </a:prstGeom>
          <a:solidFill>
            <a:srgbClr val="ffffff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КЛАССИФИ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КАЦИЯ ОБРАЗОВАТЕЛЬНЫХ УЧРЕ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ЖДЕНИЙ ПО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3399"/>
                </a:solidFill>
                <a:uFillTx/>
                <a:latin typeface="Times New Roman"/>
              </a:rPr>
              <a:t>ЧИСЛЕННОСТИ ОБУЧАЮЩИХСЯ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143000"/>
          <a:ext cx="792468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7924680" cy="475920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prstDash val="sysDot"/>
                    <a:miter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5181480" y="1600200"/>
            <a:ext cx="8002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819520"/>
            <a:ext cx="6858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657600"/>
            <a:ext cx="79992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181480"/>
            <a:ext cx="916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5105520"/>
            <a:ext cx="9158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743200"/>
            <a:ext cx="7635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523880"/>
            <a:ext cx="9158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990720"/>
            <a:ext cx="7621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3818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ектная мощность общеобразовательных школ составляет 11666 ученических мест, в 2006-2007 учебном году обучаются  7589 учащихся в 526 классах - комплектах, на 1 учителя по г. Тогучину приходится 12 обучающихся, по селу – 8. Средняя наполняемость классов 14 человек. Наполняемость школ учащимися составляет 65 %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6565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тистические данные свидетельствует о сокращении количества учащихся в ОУ района (2000г. – 10118 чел, 2006г. – 7126 чел.). Однако, анализ демографической ситуации района до 2010 года показывает, что в дальнейшем количество учащихся в школах будет оставаться стаби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ОЦЕНКИ ОБРАЗОВАТЕЛЬНОЙ СЕТИ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360000" y="1066320"/>
            <a:ext cx="82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ащенность общеобразовательных учрежд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ьютерной техн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981080"/>
          <a:ext cx="77724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88620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440440" y="5805000"/>
            <a:ext cx="37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ичество учащихся на 1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ОЦЕНКИ ОБРАЗОВАТЕЛЬНОЙ СЕТИ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доступность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2971800"/>
          <a:ext cx="3241800" cy="26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3241800" cy="262080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57080" y="2019960"/>
            <a:ext cx="3232440" cy="642600"/>
          </a:xfrm>
          <a:prstGeom prst="rect">
            <a:avLst/>
          </a:prstGeom>
          <a:noFill/>
          <a:ln cap="rnd" w="936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бразовательные учрежд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меющие выход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3962520"/>
            <a:ext cx="806400" cy="342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9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3429000"/>
            <a:ext cx="79380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220120"/>
            <a:ext cx="4724640" cy="824040"/>
          </a:xfrm>
          <a:prstGeom prst="rect">
            <a:avLst/>
          </a:prstGeom>
          <a:noFill/>
          <a:ln w="324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е общеобразовательные учреждения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имеющие выход в Интерн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029200" y="3200400"/>
          <a:ext cx="3471840" cy="252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200400"/>
                    <a:ext cx="3471840" cy="2521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4114800"/>
            <a:ext cx="687240" cy="34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3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3657600"/>
            <a:ext cx="68580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7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5-16T09:20:2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